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E23-D931-4B1C-B411-1CBE9E98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E8C-5680-45D2-8640-684C88BE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97A-8CE2-4640-B5B2-EA365B43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243-FA31-4509-B864-1CEE1068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214-C1AD-4749-A34B-2E9383C4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F31-D2FB-421B-909D-E0FE3A60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DA0-FC80-4AE9-8A2B-B56949D0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1666-120C-468B-9EF4-CBC283CF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F12-943B-4D28-AA1E-0663BE18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17E-8AEB-4CA2-9C2F-AAE538B3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483-BBD3-474F-8866-268505D6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A6C-DC82-4559-B934-AEE3C718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90D8-E545-4DA6-95F3-A54D08CFD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37DC-4391-4B07-A569-1213291D8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ole’s Human Anatomy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nd Physiology</a:t>
            </a:r>
            <a:br>
              <a:rPr sz="3200"/>
            </a:b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Twelfth Edi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utler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ew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19520" y="3505320"/>
            <a:ext cx="3504960" cy="121896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p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emical Basis 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978920" y="6248520"/>
            <a:ext cx="512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4798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4191120" y="5562720"/>
            <a:ext cx="6570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F943-B0F1-43E2-A0F0-DC9E09D97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3520" y="20574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s form when atoms combine with other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s of an atom occupy regions of space call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lectron sh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circle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toms with atomic numbers of 18 or less, the following rules app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shell can hold up to 2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shell can hold up to 8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ird shell can hold up to 8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C795-0D24-49CC-A89A-EFB43560C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2120" y="1981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shells are filled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62120" y="2590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outermost shell is full, the atom is s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86709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" descr="shi25707_0203_1.jpg"/>
          <p:cNvPicPr/>
          <p:nvPr/>
        </p:nvPicPr>
        <p:blipFill>
          <a:blip r:embed="rId1"/>
          <a:stretch/>
        </p:blipFill>
        <p:spPr>
          <a:xfrm>
            <a:off x="152280" y="2671920"/>
            <a:ext cx="8686800" cy="30304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428760" y="2863800"/>
            <a:ext cx="834840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489000" y="5934240"/>
            <a:ext cx="152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ithium (L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337560" y="5934240"/>
            <a:ext cx="1552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elium (H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442800" y="5934240"/>
            <a:ext cx="1768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drogen (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1222920" y="399564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4052160" y="28605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4042440" y="514188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1259640" y="28605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4327920" y="4008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3734280" y="4008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026600" y="372888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4026600" y="425124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8681040" y="39765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7187400" y="285120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7187400" y="512280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7160040" y="40496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7315560" y="36543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6882480" y="36687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7630200" y="38941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7517160" y="42908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6783840" y="4148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7106400" y="44467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35"/>
          <p:cNvSpPr/>
          <p:nvPr/>
        </p:nvSpPr>
        <p:spPr>
          <a:xfrm>
            <a:off x="1401840" y="242568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606C-41D7-4C34-A1F5-AC400960B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: 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46280" y="1971720"/>
            <a:ext cx="7864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 that gains or loses electrons to become 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lectrically charged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5800" y="3276720"/>
            <a:ext cx="4419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ositively charged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ed when an atom loses electr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5800" y="4495680"/>
            <a:ext cx="4495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gatively charged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ed when an atom g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670960" y="628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shi25707_0204a"/>
          <p:cNvPicPr/>
          <p:nvPr/>
        </p:nvPicPr>
        <p:blipFill>
          <a:blip r:embed="rId1"/>
          <a:stretch/>
        </p:blipFill>
        <p:spPr>
          <a:xfrm>
            <a:off x="4805280" y="2895480"/>
            <a:ext cx="3929040" cy="18208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5506920" y="373068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1p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507640" y="3876840"/>
            <a:ext cx="28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2n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4935240" y="4878360"/>
            <a:ext cx="1201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dium atom (N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7434720" y="4878360"/>
            <a:ext cx="1218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lorine atom (Cl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7770600" y="373068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7p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7771320" y="3876840"/>
            <a:ext cx="28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8n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F97C-FF41-4E2C-8712-634BF5396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84240" y="2362320"/>
            <a:ext cx="57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ttraction between a cation and an a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23320" y="1819440"/>
            <a:ext cx="19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onic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050840" y="301320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d when electrons are transferred from one atom to another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86709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shi25707_0204b"/>
          <p:cNvPicPr/>
          <p:nvPr/>
        </p:nvPicPr>
        <p:blipFill>
          <a:blip r:embed="rId1"/>
          <a:stretch/>
        </p:blipFill>
        <p:spPr>
          <a:xfrm>
            <a:off x="671400" y="3981600"/>
            <a:ext cx="3721320" cy="18414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4"/>
          <p:cNvSpPr/>
          <p:nvPr/>
        </p:nvSpPr>
        <p:spPr>
          <a:xfrm>
            <a:off x="473040" y="465948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145a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4429800" y="46530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145a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1341000" y="4753080"/>
            <a:ext cx="26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1p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1341000" y="4892760"/>
            <a:ext cx="25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2n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2779200" y="5824440"/>
            <a:ext cx="102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loride ion (Cl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977760" y="582444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ium ion (Na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9"/>
          <p:cNvSpPr/>
          <p:nvPr/>
        </p:nvSpPr>
        <p:spPr>
          <a:xfrm>
            <a:off x="1913400" y="6153120"/>
            <a:ext cx="99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30"/>
          <p:cNvSpPr/>
          <p:nvPr/>
        </p:nvSpPr>
        <p:spPr>
          <a:xfrm>
            <a:off x="949320" y="5986440"/>
            <a:ext cx="2908440" cy="100080"/>
          </a:xfrm>
          <a:custGeom>
            <a:avLst/>
            <a:gdLst>
              <a:gd name="textAreaLeft" fmla="*/ 0 w 2908440"/>
              <a:gd name="textAreaRight" fmla="*/ 2908800 w 29084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832" h="63">
                <a:moveTo>
                  <a:pt x="6" y="0"/>
                </a:moveTo>
                <a:lnTo>
                  <a:pt x="6" y="60"/>
                </a:lnTo>
                <a:lnTo>
                  <a:pt x="3" y="57"/>
                </a:lnTo>
                <a:lnTo>
                  <a:pt x="1830" y="57"/>
                </a:lnTo>
                <a:lnTo>
                  <a:pt x="1827" y="60"/>
                </a:lnTo>
                <a:lnTo>
                  <a:pt x="1827" y="0"/>
                </a:lnTo>
                <a:lnTo>
                  <a:pt x="1832" y="0"/>
                </a:lnTo>
                <a:lnTo>
                  <a:pt x="1832" y="60"/>
                </a:lnTo>
                <a:lnTo>
                  <a:pt x="1830" y="63"/>
                </a:lnTo>
                <a:lnTo>
                  <a:pt x="3" y="63"/>
                </a:lnTo>
                <a:lnTo>
                  <a:pt x="0" y="60"/>
                </a:lnTo>
                <a:lnTo>
                  <a:pt x="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1"/>
          <p:cNvSpPr/>
          <p:nvPr/>
        </p:nvSpPr>
        <p:spPr>
          <a:xfrm>
            <a:off x="2381400" y="6076800"/>
            <a:ext cx="9360" cy="493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2"/>
          <p:cNvSpPr/>
          <p:nvPr/>
        </p:nvSpPr>
        <p:spPr>
          <a:xfrm>
            <a:off x="3341160" y="4753080"/>
            <a:ext cx="26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7p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3345840" y="4892760"/>
            <a:ext cx="25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8n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35"/>
          <p:cNvSpPr/>
          <p:nvPr/>
        </p:nvSpPr>
        <p:spPr>
          <a:xfrm>
            <a:off x="266760" y="3821040"/>
            <a:ext cx="4846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shi25707_0204c"/>
          <p:cNvPicPr/>
          <p:nvPr/>
        </p:nvPicPr>
        <p:blipFill>
          <a:blip r:embed="rId2"/>
          <a:stretch/>
        </p:blipFill>
        <p:spPr>
          <a:xfrm>
            <a:off x="5816520" y="3841920"/>
            <a:ext cx="171288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2"/>
          <p:cNvSpPr/>
          <p:nvPr/>
        </p:nvSpPr>
        <p:spPr>
          <a:xfrm>
            <a:off x="6341760" y="4433760"/>
            <a:ext cx="20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2"/>
          <p:cNvSpPr/>
          <p:nvPr/>
        </p:nvSpPr>
        <p:spPr>
          <a:xfrm>
            <a:off x="6735240" y="4570560"/>
            <a:ext cx="18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52"/>
          <p:cNvSpPr/>
          <p:nvPr/>
        </p:nvSpPr>
        <p:spPr>
          <a:xfrm>
            <a:off x="4497480" y="3673440"/>
            <a:ext cx="4011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A6A9-C794-4F12-89F3-E3C35DAB1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valent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66360" y="1828800"/>
            <a:ext cx="47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d when atoms shar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59960" y="5157720"/>
            <a:ext cx="466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atoms form single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atoms form two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atoms form three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toms form four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509160" y="5102280"/>
            <a:ext cx="14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≡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= C =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" descr="shi25707_0205_1.jpg"/>
          <p:cNvPicPr/>
          <p:nvPr/>
        </p:nvPicPr>
        <p:blipFill>
          <a:blip r:embed="rId1"/>
          <a:stretch/>
        </p:blipFill>
        <p:spPr>
          <a:xfrm>
            <a:off x="228600" y="2782800"/>
            <a:ext cx="8686800" cy="21114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7"/>
          <p:cNvSpPr/>
          <p:nvPr/>
        </p:nvSpPr>
        <p:spPr>
          <a:xfrm>
            <a:off x="306000" y="4792680"/>
            <a:ext cx="148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gen a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2173680" y="479268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9"/>
          <p:cNvSpPr/>
          <p:nvPr/>
        </p:nvSpPr>
        <p:spPr>
          <a:xfrm>
            <a:off x="985320" y="254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0"/>
          <p:cNvSpPr/>
          <p:nvPr/>
        </p:nvSpPr>
        <p:spPr>
          <a:xfrm>
            <a:off x="6522120" y="4808520"/>
            <a:ext cx="18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gen molec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1"/>
          <p:cNvSpPr/>
          <p:nvPr/>
        </p:nvSpPr>
        <p:spPr>
          <a:xfrm>
            <a:off x="7347960" y="2549520"/>
            <a:ext cx="212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3"/>
          <p:cNvSpPr/>
          <p:nvPr/>
        </p:nvSpPr>
        <p:spPr>
          <a:xfrm>
            <a:off x="2696760" y="4792680"/>
            <a:ext cx="148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gen a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3312720" y="254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1006200" y="356724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3333600" y="356724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8010360" y="358308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6759360" y="358308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9"/>
          <p:cNvSpPr/>
          <p:nvPr/>
        </p:nvSpPr>
        <p:spPr>
          <a:xfrm>
            <a:off x="1035360" y="272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0"/>
          <p:cNvSpPr/>
          <p:nvPr/>
        </p:nvSpPr>
        <p:spPr>
          <a:xfrm>
            <a:off x="3337200" y="272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7431480" y="30160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2"/>
          <p:cNvSpPr/>
          <p:nvPr/>
        </p:nvSpPr>
        <p:spPr>
          <a:xfrm>
            <a:off x="7412400" y="40798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35"/>
          <p:cNvSpPr/>
          <p:nvPr/>
        </p:nvSpPr>
        <p:spPr>
          <a:xfrm>
            <a:off x="1477800" y="2306520"/>
            <a:ext cx="61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8CFD-B882-4E0C-8A81-8F158552F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ctural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33520" y="22860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ructural formu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 how atoms bond and are arranged in various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35"/>
          <p:cNvSpPr/>
          <p:nvPr/>
        </p:nvSpPr>
        <p:spPr>
          <a:xfrm>
            <a:off x="1477800" y="3429000"/>
            <a:ext cx="61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7338600" y="4027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5308200" y="4024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8492760" y="4027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7760880" y="48006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traight Connector 13"/>
          <p:cNvSpPr/>
          <p:nvPr/>
        </p:nvSpPr>
        <p:spPr>
          <a:xfrm>
            <a:off x="7683480" y="423072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traight Connector 14"/>
          <p:cNvSpPr/>
          <p:nvPr/>
        </p:nvSpPr>
        <p:spPr>
          <a:xfrm>
            <a:off x="7683480" y="428148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5177160" y="480528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673360" y="480060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8"/>
          <p:cNvSpPr/>
          <p:nvPr/>
        </p:nvSpPr>
        <p:spPr>
          <a:xfrm>
            <a:off x="478080" y="48006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9"/>
          <p:cNvSpPr/>
          <p:nvPr/>
        </p:nvSpPr>
        <p:spPr>
          <a:xfrm>
            <a:off x="7923600" y="4021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traight Connector 20"/>
          <p:cNvSpPr/>
          <p:nvPr/>
        </p:nvSpPr>
        <p:spPr>
          <a:xfrm flipV="1">
            <a:off x="5650920" y="3949560"/>
            <a:ext cx="216720" cy="214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21"/>
          <p:cNvSpPr/>
          <p:nvPr/>
        </p:nvSpPr>
        <p:spPr>
          <a:xfrm>
            <a:off x="5163840" y="3947760"/>
            <a:ext cx="214200" cy="21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22"/>
          <p:cNvSpPr/>
          <p:nvPr/>
        </p:nvSpPr>
        <p:spPr>
          <a:xfrm>
            <a:off x="5671080" y="3567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23"/>
          <p:cNvSpPr/>
          <p:nvPr/>
        </p:nvSpPr>
        <p:spPr>
          <a:xfrm>
            <a:off x="4956840" y="3557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2431440" y="40305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25"/>
          <p:cNvSpPr/>
          <p:nvPr/>
        </p:nvSpPr>
        <p:spPr>
          <a:xfrm>
            <a:off x="2776680" y="4235400"/>
            <a:ext cx="3045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26"/>
          <p:cNvSpPr/>
          <p:nvPr/>
        </p:nvSpPr>
        <p:spPr>
          <a:xfrm>
            <a:off x="2776680" y="4284720"/>
            <a:ext cx="304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27"/>
          <p:cNvSpPr/>
          <p:nvPr/>
        </p:nvSpPr>
        <p:spPr>
          <a:xfrm>
            <a:off x="3015720" y="4024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8"/>
          <p:cNvSpPr/>
          <p:nvPr/>
        </p:nvSpPr>
        <p:spPr>
          <a:xfrm>
            <a:off x="219600" y="4024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29"/>
          <p:cNvSpPr/>
          <p:nvPr/>
        </p:nvSpPr>
        <p:spPr>
          <a:xfrm>
            <a:off x="563400" y="425448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31"/>
          <p:cNvSpPr/>
          <p:nvPr/>
        </p:nvSpPr>
        <p:spPr>
          <a:xfrm>
            <a:off x="803160" y="4027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34"/>
          <p:cNvSpPr/>
          <p:nvPr/>
        </p:nvSpPr>
        <p:spPr>
          <a:xfrm>
            <a:off x="8250120" y="423072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traight Connector 35"/>
          <p:cNvSpPr/>
          <p:nvPr/>
        </p:nvSpPr>
        <p:spPr>
          <a:xfrm>
            <a:off x="8250120" y="4281480"/>
            <a:ext cx="304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19A4-7E15-4A04-B5D2-7FBEB770E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239240" cy="14479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ding of Atom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ar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09480" y="2209680"/>
            <a:ext cx="84790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ola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lecule with a slightly negative end and a slightly positive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s when electrons are not shared equally in covalent bo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ter is an important polar molec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shi25707_0208a"/>
          <p:cNvPicPr/>
          <p:nvPr/>
        </p:nvPicPr>
        <p:blipFill>
          <a:blip r:embed="rId1"/>
          <a:stretch/>
        </p:blipFill>
        <p:spPr>
          <a:xfrm>
            <a:off x="1638360" y="4429080"/>
            <a:ext cx="2076480" cy="18446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1"/>
          <p:cNvSpPr/>
          <p:nvPr/>
        </p:nvSpPr>
        <p:spPr>
          <a:xfrm>
            <a:off x="3526560" y="3930480"/>
            <a:ext cx="18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ghtly negative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3641400" y="6566040"/>
            <a:ext cx="1834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ghtly positive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14"/>
          <p:cNvSpPr/>
          <p:nvPr/>
        </p:nvSpPr>
        <p:spPr>
          <a:xfrm>
            <a:off x="2093760" y="6267600"/>
            <a:ext cx="1073160" cy="4172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417240"/>
              <a:gd name="textAreaBottom" fmla="*/ 417600 h 417240"/>
            </a:gdLst>
            <a:ahLst/>
            <a:rect l="textAreaLeft" t="textAreaTop" r="textAreaRight" b="textAreaBottom"/>
            <a:pathLst>
              <a:path w="676" h="263">
                <a:moveTo>
                  <a:pt x="597" y="3"/>
                </a:moveTo>
                <a:lnTo>
                  <a:pt x="676" y="259"/>
                </a:lnTo>
                <a:lnTo>
                  <a:pt x="676" y="263"/>
                </a:lnTo>
                <a:lnTo>
                  <a:pt x="672" y="263"/>
                </a:lnTo>
                <a:lnTo>
                  <a:pt x="0" y="7"/>
                </a:lnTo>
                <a:lnTo>
                  <a:pt x="4" y="0"/>
                </a:lnTo>
                <a:lnTo>
                  <a:pt x="676" y="256"/>
                </a:lnTo>
                <a:lnTo>
                  <a:pt x="668" y="263"/>
                </a:lnTo>
                <a:lnTo>
                  <a:pt x="587" y="7"/>
                </a:lnTo>
                <a:lnTo>
                  <a:pt x="597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3159000" y="6672240"/>
            <a:ext cx="322560" cy="17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1902960" y="64753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4"/>
          <p:cNvSpPr/>
          <p:nvPr/>
        </p:nvSpPr>
        <p:spPr>
          <a:xfrm flipH="1">
            <a:off x="2057400" y="4114800"/>
            <a:ext cx="1447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 flipH="1">
            <a:off x="3200040" y="411480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178B-85C1-42B5-996A-3CD3DA3FA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1981080"/>
            <a:ext cx="8001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ydrogen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ak attraction between the positive end of one polar molecule and the negative end of another polar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d between water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for protein and nucleic acid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shi25707_0208b"/>
          <p:cNvPicPr/>
          <p:nvPr/>
        </p:nvPicPr>
        <p:blipFill>
          <a:blip r:embed="rId1"/>
          <a:stretch/>
        </p:blipFill>
        <p:spPr>
          <a:xfrm>
            <a:off x="3017880" y="4119480"/>
            <a:ext cx="2744640" cy="26416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0"/>
          <p:cNvSpPr/>
          <p:nvPr/>
        </p:nvSpPr>
        <p:spPr>
          <a:xfrm>
            <a:off x="4284720" y="5253120"/>
            <a:ext cx="6120" cy="1364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1"/>
          <p:cNvSpPr/>
          <p:nvPr/>
        </p:nvSpPr>
        <p:spPr>
          <a:xfrm>
            <a:off x="4341960" y="5462640"/>
            <a:ext cx="117360" cy="44280"/>
          </a:xfrm>
          <a:custGeom>
            <a:avLst/>
            <a:gdLst>
              <a:gd name="textAreaLeft" fmla="*/ 0 w 117360"/>
              <a:gd name="textAreaRight" fmla="*/ 117720 w 117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74" h="28">
                <a:moveTo>
                  <a:pt x="0" y="0"/>
                </a:moveTo>
                <a:lnTo>
                  <a:pt x="74" y="25"/>
                </a:lnTo>
                <a:lnTo>
                  <a:pt x="74" y="28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4075560" y="41688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4277160" y="511956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3494520" y="551664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5625000" y="5761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4505760" y="54547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318480" y="58896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5443920" y="61387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3940560" y="61308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4155120" y="65041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4491360" y="421956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4295520" y="438300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4273200" y="538956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3219120" y="559584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3881160" y="644220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5362200" y="5857920"/>
            <a:ext cx="8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7"/>
          <p:cNvSpPr/>
          <p:nvPr/>
        </p:nvSpPr>
        <p:spPr>
          <a:xfrm>
            <a:off x="5218920" y="5197320"/>
            <a:ext cx="91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28"/>
          <p:cNvSpPr/>
          <p:nvPr/>
        </p:nvSpPr>
        <p:spPr>
          <a:xfrm>
            <a:off x="4316400" y="4937040"/>
            <a:ext cx="738360" cy="757440"/>
          </a:xfrm>
          <a:custGeom>
            <a:avLst/>
            <a:gdLst>
              <a:gd name="textAreaLeft" fmla="*/ 0 w 738360"/>
              <a:gd name="textAreaRight" fmla="*/ 738720 w 73836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65" h="477">
                <a:moveTo>
                  <a:pt x="0" y="0"/>
                </a:moveTo>
                <a:lnTo>
                  <a:pt x="462" y="206"/>
                </a:lnTo>
                <a:lnTo>
                  <a:pt x="465" y="206"/>
                </a:lnTo>
                <a:lnTo>
                  <a:pt x="362" y="477"/>
                </a:lnTo>
                <a:lnTo>
                  <a:pt x="359" y="477"/>
                </a:lnTo>
                <a:lnTo>
                  <a:pt x="462" y="206"/>
                </a:lnTo>
                <a:lnTo>
                  <a:pt x="462" y="210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9"/>
          <p:cNvSpPr/>
          <p:nvPr/>
        </p:nvSpPr>
        <p:spPr>
          <a:xfrm>
            <a:off x="5049720" y="5264280"/>
            <a:ext cx="130320" cy="6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3096000" y="6607080"/>
            <a:ext cx="14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D0FA-95E6-4D9C-B387-BFF19F76D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1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609480" y="22860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y study chemistry in 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atomy and Physiology cla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1198080" y="3699000"/>
            <a:ext cx="57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dy functions depend on cellula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1193760" y="4232160"/>
            <a:ext cx="62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functions result from chemic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1219320" y="4800600"/>
            <a:ext cx="74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chemistry helps to explain physiological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3020-5A7F-427F-B025-E5756AA9C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295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2: Structure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69960" y="2098800"/>
            <a:ext cx="7864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anything that takes up space and has mass (weight).  It is composed of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3200400"/>
            <a:ext cx="77724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mposed of chemically identical ato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– required by the body in large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 elements - required by the body in small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trace elements – required by the body in very minute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85800" y="5410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mallest particle of 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99F8-5FE9-44D7-9DC8-11C4E2E9E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ble 2.1 Some Particles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shi25707_t02_01"/>
          <p:cNvPicPr/>
          <p:nvPr/>
        </p:nvPicPr>
        <p:blipFill>
          <a:blip r:embed="rId1"/>
          <a:stretch/>
        </p:blipFill>
        <p:spPr>
          <a:xfrm>
            <a:off x="139680" y="2448000"/>
            <a:ext cx="88632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744B-292F-4B4F-A973-65C3FA443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s and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14400" y="205740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matter is composed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are the parts of 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trac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est parts of atoms ar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8E25-24C9-4146-AD7A-256AE5117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57200" y="2022480"/>
            <a:ext cx="3216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to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mposed of      subatomic p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rot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carries a single positive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eutr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carries no electrical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lectr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carries a single negative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4648320"/>
            <a:ext cx="34448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al part of a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sed of protons and neu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s move around the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Y:\scan\Nimas\Backup\Powerpoint-MH_DCM-Text Art Edit\SHIER-Text Edit\Final files\Chapter 02\Jpeg\Text edit Art\shi25707_0201.jpg"/>
          <p:cNvPicPr/>
          <p:nvPr/>
        </p:nvPicPr>
        <p:blipFill>
          <a:blip r:embed="rId1"/>
          <a:stretch/>
        </p:blipFill>
        <p:spPr>
          <a:xfrm>
            <a:off x="3610080" y="2367000"/>
            <a:ext cx="3968640" cy="3881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8"/>
          <p:cNvSpPr/>
          <p:nvPr/>
        </p:nvSpPr>
        <p:spPr>
          <a:xfrm>
            <a:off x="8045640" y="3849840"/>
            <a:ext cx="1018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c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9"/>
          <p:cNvSpPr/>
          <p:nvPr/>
        </p:nvSpPr>
        <p:spPr>
          <a:xfrm>
            <a:off x="4825800" y="6381720"/>
            <a:ext cx="1384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thium (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0"/>
          <p:cNvSpPr/>
          <p:nvPr/>
        </p:nvSpPr>
        <p:spPr>
          <a:xfrm>
            <a:off x="8045280" y="2986200"/>
            <a:ext cx="820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31"/>
          <p:cNvSpPr/>
          <p:nvPr/>
        </p:nvSpPr>
        <p:spPr>
          <a:xfrm>
            <a:off x="6243480" y="3087720"/>
            <a:ext cx="1735200" cy="892080"/>
          </a:xfrm>
          <a:custGeom>
            <a:avLst/>
            <a:gdLst>
              <a:gd name="textAreaLeft" fmla="*/ 0 w 1735200"/>
              <a:gd name="textAreaRight" fmla="*/ 1735560 w 173520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1420" h="729">
                <a:moveTo>
                  <a:pt x="0" y="729"/>
                </a:moveTo>
                <a:lnTo>
                  <a:pt x="1197" y="0"/>
                </a:lnTo>
                <a:lnTo>
                  <a:pt x="14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8048520" y="2057400"/>
            <a:ext cx="977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33"/>
          <p:cNvSpPr/>
          <p:nvPr/>
        </p:nvSpPr>
        <p:spPr>
          <a:xfrm>
            <a:off x="5908680" y="2162160"/>
            <a:ext cx="2073240" cy="152100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1521000"/>
              <a:gd name="textAreaBottom" fmla="*/ 1521360 h 1521000"/>
            </a:gdLst>
            <a:ahLst/>
            <a:rect l="textAreaLeft" t="textAreaTop" r="textAreaRight" b="textAreaBottom"/>
            <a:pathLst>
              <a:path w="1696" h="1244">
                <a:moveTo>
                  <a:pt x="0" y="1244"/>
                </a:moveTo>
                <a:lnTo>
                  <a:pt x="1382" y="0"/>
                </a:lnTo>
                <a:lnTo>
                  <a:pt x="169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8040960" y="5511960"/>
            <a:ext cx="99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35"/>
          <p:cNvSpPr/>
          <p:nvPr/>
        </p:nvSpPr>
        <p:spPr>
          <a:xfrm>
            <a:off x="6378480" y="4863960"/>
            <a:ext cx="1592280" cy="75276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752760"/>
              <a:gd name="textAreaBottom" fmla="*/ 753120 h 752760"/>
            </a:gdLst>
            <a:ahLst/>
            <a:rect l="textAreaLeft" t="textAreaTop" r="textAreaRight" b="textAreaBottom"/>
            <a:pathLst>
              <a:path w="1303" h="615">
                <a:moveTo>
                  <a:pt x="0" y="0"/>
                </a:moveTo>
                <a:lnTo>
                  <a:pt x="992" y="615"/>
                </a:lnTo>
                <a:lnTo>
                  <a:pt x="1303" y="61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36"/>
          <p:cNvSpPr/>
          <p:nvPr/>
        </p:nvSpPr>
        <p:spPr>
          <a:xfrm>
            <a:off x="7545240" y="3951360"/>
            <a:ext cx="433440" cy="145800"/>
          </a:xfrm>
          <a:custGeom>
            <a:avLst/>
            <a:gdLst>
              <a:gd name="textAreaLeft" fmla="*/ 0 w 433440"/>
              <a:gd name="textAreaRight" fmla="*/ 433800 w 43344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355" h="119">
                <a:moveTo>
                  <a:pt x="0" y="119"/>
                </a:moveTo>
                <a:lnTo>
                  <a:pt x="139" y="0"/>
                </a:lnTo>
                <a:lnTo>
                  <a:pt x="35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37"/>
          <p:cNvSpPr/>
          <p:nvPr/>
        </p:nvSpPr>
        <p:spPr>
          <a:xfrm>
            <a:off x="5703840" y="4184640"/>
            <a:ext cx="806400" cy="971640"/>
          </a:xfrm>
          <a:custGeom>
            <a:avLst/>
            <a:gdLst>
              <a:gd name="textAreaLeft" fmla="*/ 0 w 806400"/>
              <a:gd name="textAreaRight" fmla="*/ 806760 w 80640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660" h="794">
                <a:moveTo>
                  <a:pt x="0" y="756"/>
                </a:moveTo>
                <a:lnTo>
                  <a:pt x="0" y="756"/>
                </a:lnTo>
                <a:lnTo>
                  <a:pt x="21" y="765"/>
                </a:lnTo>
                <a:lnTo>
                  <a:pt x="43" y="772"/>
                </a:lnTo>
                <a:lnTo>
                  <a:pt x="66" y="778"/>
                </a:lnTo>
                <a:lnTo>
                  <a:pt x="88" y="783"/>
                </a:lnTo>
                <a:lnTo>
                  <a:pt x="111" y="789"/>
                </a:lnTo>
                <a:lnTo>
                  <a:pt x="137" y="790"/>
                </a:lnTo>
                <a:lnTo>
                  <a:pt x="160" y="792"/>
                </a:lnTo>
                <a:lnTo>
                  <a:pt x="185" y="794"/>
                </a:lnTo>
                <a:lnTo>
                  <a:pt x="209" y="792"/>
                </a:lnTo>
                <a:lnTo>
                  <a:pt x="234" y="790"/>
                </a:lnTo>
                <a:lnTo>
                  <a:pt x="257" y="789"/>
                </a:lnTo>
                <a:lnTo>
                  <a:pt x="281" y="783"/>
                </a:lnTo>
                <a:lnTo>
                  <a:pt x="304" y="778"/>
                </a:lnTo>
                <a:lnTo>
                  <a:pt x="326" y="772"/>
                </a:lnTo>
                <a:lnTo>
                  <a:pt x="349" y="765"/>
                </a:lnTo>
                <a:lnTo>
                  <a:pt x="371" y="756"/>
                </a:lnTo>
                <a:lnTo>
                  <a:pt x="392" y="747"/>
                </a:lnTo>
                <a:lnTo>
                  <a:pt x="412" y="736"/>
                </a:lnTo>
                <a:lnTo>
                  <a:pt x="432" y="724"/>
                </a:lnTo>
                <a:lnTo>
                  <a:pt x="452" y="711"/>
                </a:lnTo>
                <a:lnTo>
                  <a:pt x="470" y="699"/>
                </a:lnTo>
                <a:lnTo>
                  <a:pt x="488" y="684"/>
                </a:lnTo>
                <a:lnTo>
                  <a:pt x="506" y="670"/>
                </a:lnTo>
                <a:lnTo>
                  <a:pt x="522" y="654"/>
                </a:lnTo>
                <a:lnTo>
                  <a:pt x="538" y="637"/>
                </a:lnTo>
                <a:lnTo>
                  <a:pt x="552" y="619"/>
                </a:lnTo>
                <a:lnTo>
                  <a:pt x="567" y="601"/>
                </a:lnTo>
                <a:lnTo>
                  <a:pt x="579" y="583"/>
                </a:lnTo>
                <a:lnTo>
                  <a:pt x="592" y="564"/>
                </a:lnTo>
                <a:lnTo>
                  <a:pt x="605" y="544"/>
                </a:lnTo>
                <a:lnTo>
                  <a:pt x="614" y="524"/>
                </a:lnTo>
                <a:lnTo>
                  <a:pt x="624" y="502"/>
                </a:lnTo>
                <a:lnTo>
                  <a:pt x="632" y="481"/>
                </a:lnTo>
                <a:lnTo>
                  <a:pt x="641" y="459"/>
                </a:lnTo>
                <a:lnTo>
                  <a:pt x="646" y="436"/>
                </a:lnTo>
                <a:lnTo>
                  <a:pt x="651" y="412"/>
                </a:lnTo>
                <a:lnTo>
                  <a:pt x="655" y="389"/>
                </a:lnTo>
                <a:lnTo>
                  <a:pt x="659" y="366"/>
                </a:lnTo>
                <a:lnTo>
                  <a:pt x="660" y="342"/>
                </a:lnTo>
                <a:lnTo>
                  <a:pt x="660" y="317"/>
                </a:lnTo>
                <a:lnTo>
                  <a:pt x="659" y="272"/>
                </a:lnTo>
                <a:lnTo>
                  <a:pt x="653" y="229"/>
                </a:lnTo>
                <a:lnTo>
                  <a:pt x="642" y="186"/>
                </a:lnTo>
                <a:lnTo>
                  <a:pt x="630" y="144"/>
                </a:lnTo>
                <a:lnTo>
                  <a:pt x="612" y="107"/>
                </a:lnTo>
                <a:lnTo>
                  <a:pt x="592" y="69"/>
                </a:lnTo>
                <a:lnTo>
                  <a:pt x="569" y="33"/>
                </a:lnTo>
                <a:lnTo>
                  <a:pt x="5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5472000" y="4184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9"/>
          <p:cNvSpPr/>
          <p:nvPr/>
        </p:nvSpPr>
        <p:spPr>
          <a:xfrm>
            <a:off x="5621400" y="3816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0"/>
          <p:cNvSpPr/>
          <p:nvPr/>
        </p:nvSpPr>
        <p:spPr>
          <a:xfrm>
            <a:off x="5211360" y="38275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1"/>
          <p:cNvSpPr/>
          <p:nvPr/>
        </p:nvSpPr>
        <p:spPr>
          <a:xfrm>
            <a:off x="5916240" y="40402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2"/>
          <p:cNvSpPr/>
          <p:nvPr/>
        </p:nvSpPr>
        <p:spPr>
          <a:xfrm>
            <a:off x="5811840" y="4416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5424120" y="456084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4"/>
          <p:cNvSpPr/>
          <p:nvPr/>
        </p:nvSpPr>
        <p:spPr>
          <a:xfrm>
            <a:off x="5102280" y="4259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5500800" y="25290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6"/>
          <p:cNvSpPr/>
          <p:nvPr/>
        </p:nvSpPr>
        <p:spPr>
          <a:xfrm>
            <a:off x="7427880" y="410544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7"/>
          <p:cNvSpPr/>
          <p:nvPr/>
        </p:nvSpPr>
        <p:spPr>
          <a:xfrm>
            <a:off x="5500800" y="57373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35"/>
          <p:cNvSpPr/>
          <p:nvPr/>
        </p:nvSpPr>
        <p:spPr>
          <a:xfrm>
            <a:off x="2660760" y="1857240"/>
            <a:ext cx="617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BE54-EC43-4935-B3CE-634CC7F5D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62120" y="152280"/>
            <a:ext cx="7772400" cy="13716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omic Numb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ss Number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omic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80880" y="1981080"/>
            <a:ext cx="8229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tomic Numb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protons in the nucleus of one at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element has a unique atomic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s the number of electrons in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80880" y="3352680"/>
            <a:ext cx="7696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ss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mber of protons plus the number of neutrons in one at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s do not contribute to the weight of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80880" y="4648320"/>
            <a:ext cx="7696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tomic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of mass number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n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A200-C357-4519-83FE-25CE1A457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22240" y="2022480"/>
            <a:ext cx="7483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with the same atomic numbers but with different mass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number of neu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often forms isotopes (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E37E-FEA3-49E7-8BA3-E7082982B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lecules and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69960" y="2174760"/>
            <a:ext cx="7635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lec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article formed when two or more atoms chemically comb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3352680"/>
            <a:ext cx="7407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article formed when two or more atoms of different elements chemically comb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46280" y="4765680"/>
            <a:ext cx="725472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lecular formu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epict the elements present and the number of each atom present in the molec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9:13:32Z</dcterms:created>
  <dc:creator>Dr. John McNamara</dc:creator>
  <dc:description/>
  <dc:language>en-US</dc:language>
  <cp:lastModifiedBy>pjc</cp:lastModifiedBy>
  <dcterms:modified xsi:type="dcterms:W3CDTF">2012-08-24T19:50:21Z</dcterms:modified>
  <cp:revision>125</cp:revision>
  <dc:subject>Chapter 2</dc:subject>
  <dc:title>PowerPoint to accompany  Hole’s Human Anatomy and Physiology 12e  Authors here</dc:title>
</cp:coreProperties>
</file>