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AD87-D3AC-4869-AC3F-239E27331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F11C-1C2B-41B7-80E1-AF2E00D6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A48C-5943-49A5-AB0E-2C385C1B6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EAED-3EB1-484B-9CBD-CBD3D79E8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7F78-311F-4EF7-96B4-8F8B5FD9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B46B-69AF-4908-9333-F70AF276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1DCE-19FC-4D4D-BED0-6DD05610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331D-C67D-4573-98DD-8648EAA2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2F20-E2EF-4B76-9DFC-765D4E9F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8A25-2BAD-4329-8E2A-C549316C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F370-49B4-4B4A-95E6-F8FC3D4C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7D3C-7EBC-44F6-9365-65A67FF4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C34F-7BC0-4E65-901F-9D4D6EDD9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FF3C-2660-4504-B77E-7A424FE50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Hole’s Human Anatomy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and Physiology</a:t>
            </a:r>
            <a:br>
              <a:rPr sz="3200"/>
            </a:b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Twelfth Edition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ier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utler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ew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819520" y="3505320"/>
            <a:ext cx="3504960" cy="121896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ap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emical Basis of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1978920" y="6248520"/>
            <a:ext cx="512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479840" y="5527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1"/>
          <a:stretch/>
        </p:blipFill>
        <p:spPr>
          <a:xfrm>
            <a:off x="4191120" y="5562720"/>
            <a:ext cx="65700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848B-0DA3-4F40-AEE3-2222BF766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nding of A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533520" y="2057400"/>
            <a:ext cx="769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nds form when atoms combine with other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s of an atom occupy regions of space calle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lectron shel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ich circle 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toms with atomic numbers of 18 or less, the following rules app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rst shell can hold up to 2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cond shell can hold up to 8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hird shell can hold up to 8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4DC9-9952-4B80-87FB-E314CB6D8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nding of A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762120" y="1981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r shells are filled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762120" y="25909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outermost shell is full, the atom is s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8670960" y="6213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" descr="shi25707_0203_1.jpg"/>
          <p:cNvPicPr/>
          <p:nvPr/>
        </p:nvPicPr>
        <p:blipFill>
          <a:blip r:embed="rId1"/>
          <a:stretch/>
        </p:blipFill>
        <p:spPr>
          <a:xfrm>
            <a:off x="152280" y="2671920"/>
            <a:ext cx="8686800" cy="303048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5"/>
          <p:cNvSpPr/>
          <p:nvPr/>
        </p:nvSpPr>
        <p:spPr>
          <a:xfrm>
            <a:off x="428760" y="2863800"/>
            <a:ext cx="8348400" cy="34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6489000" y="5934240"/>
            <a:ext cx="1521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ithium (L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3337560" y="5934240"/>
            <a:ext cx="1552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elium (H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442800" y="5934240"/>
            <a:ext cx="1768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ydrogen (H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1222920" y="3995640"/>
            <a:ext cx="16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4052160" y="2860560"/>
            <a:ext cx="93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4042440" y="5141880"/>
            <a:ext cx="93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1259640" y="2860560"/>
            <a:ext cx="93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4327920" y="40086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5"/>
          <p:cNvSpPr/>
          <p:nvPr/>
        </p:nvSpPr>
        <p:spPr>
          <a:xfrm>
            <a:off x="3734280" y="40086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4026600" y="3728880"/>
            <a:ext cx="16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7"/>
          <p:cNvSpPr/>
          <p:nvPr/>
        </p:nvSpPr>
        <p:spPr>
          <a:xfrm>
            <a:off x="4026600" y="4251240"/>
            <a:ext cx="16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8"/>
          <p:cNvSpPr/>
          <p:nvPr/>
        </p:nvSpPr>
        <p:spPr>
          <a:xfrm>
            <a:off x="8681040" y="3976560"/>
            <a:ext cx="93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9"/>
          <p:cNvSpPr/>
          <p:nvPr/>
        </p:nvSpPr>
        <p:spPr>
          <a:xfrm>
            <a:off x="7187400" y="2851200"/>
            <a:ext cx="93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20"/>
          <p:cNvSpPr/>
          <p:nvPr/>
        </p:nvSpPr>
        <p:spPr>
          <a:xfrm>
            <a:off x="7187400" y="5122800"/>
            <a:ext cx="93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21"/>
          <p:cNvSpPr/>
          <p:nvPr/>
        </p:nvSpPr>
        <p:spPr>
          <a:xfrm>
            <a:off x="7160040" y="404964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2"/>
          <p:cNvSpPr/>
          <p:nvPr/>
        </p:nvSpPr>
        <p:spPr>
          <a:xfrm>
            <a:off x="7315560" y="365436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3"/>
          <p:cNvSpPr/>
          <p:nvPr/>
        </p:nvSpPr>
        <p:spPr>
          <a:xfrm>
            <a:off x="6882480" y="3668760"/>
            <a:ext cx="16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4"/>
          <p:cNvSpPr/>
          <p:nvPr/>
        </p:nvSpPr>
        <p:spPr>
          <a:xfrm>
            <a:off x="7630200" y="3894120"/>
            <a:ext cx="16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5"/>
          <p:cNvSpPr/>
          <p:nvPr/>
        </p:nvSpPr>
        <p:spPr>
          <a:xfrm>
            <a:off x="7517160" y="429084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6"/>
          <p:cNvSpPr/>
          <p:nvPr/>
        </p:nvSpPr>
        <p:spPr>
          <a:xfrm>
            <a:off x="6783840" y="41482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7"/>
          <p:cNvSpPr/>
          <p:nvPr/>
        </p:nvSpPr>
        <p:spPr>
          <a:xfrm>
            <a:off x="7106400" y="4446720"/>
            <a:ext cx="16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35"/>
          <p:cNvSpPr/>
          <p:nvPr/>
        </p:nvSpPr>
        <p:spPr>
          <a:xfrm>
            <a:off x="1401840" y="2425680"/>
            <a:ext cx="617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B059-FFCB-4977-A708-919CD7620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nding of Atoms: 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746280" y="1971720"/>
            <a:ext cx="78642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tom that gains or loses electrons to become 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lectrically charged a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85800" y="3276720"/>
            <a:ext cx="4419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ositively charged 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ed when an atom loses electron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85800" y="4495680"/>
            <a:ext cx="44956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egatively charged 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ed when an atom g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8670960" y="6289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shi25707_0204a"/>
          <p:cNvPicPr/>
          <p:nvPr/>
        </p:nvPicPr>
        <p:blipFill>
          <a:blip r:embed="rId1"/>
          <a:stretch/>
        </p:blipFill>
        <p:spPr>
          <a:xfrm>
            <a:off x="4805280" y="2895480"/>
            <a:ext cx="3929040" cy="18208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2"/>
          <p:cNvSpPr/>
          <p:nvPr/>
        </p:nvSpPr>
        <p:spPr>
          <a:xfrm>
            <a:off x="5506920" y="373068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1p</a:t>
            </a:r>
            <a:r>
              <a:rPr b="1" lang="en-US" sz="11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5507640" y="3876840"/>
            <a:ext cx="28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2n</a:t>
            </a:r>
            <a:r>
              <a:rPr b="1" lang="en-US" sz="11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6"/>
          <p:cNvSpPr/>
          <p:nvPr/>
        </p:nvSpPr>
        <p:spPr>
          <a:xfrm>
            <a:off x="4935240" y="4878360"/>
            <a:ext cx="1201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dium atom (Na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7434720" y="4878360"/>
            <a:ext cx="1218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lorine atom (Cl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7"/>
          <p:cNvSpPr/>
          <p:nvPr/>
        </p:nvSpPr>
        <p:spPr>
          <a:xfrm>
            <a:off x="7770600" y="373068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7p</a:t>
            </a:r>
            <a:r>
              <a:rPr b="1" lang="en-US" sz="11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9"/>
          <p:cNvSpPr/>
          <p:nvPr/>
        </p:nvSpPr>
        <p:spPr>
          <a:xfrm>
            <a:off x="7771320" y="3876840"/>
            <a:ext cx="28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8n</a:t>
            </a:r>
            <a:r>
              <a:rPr b="1" lang="en-US" sz="11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CDF8-E05E-4263-BFA2-70D32BD56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onic Bo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984240" y="2362320"/>
            <a:ext cx="57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ttraction between a cation and an a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823320" y="1819440"/>
            <a:ext cx="198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onic 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050840" y="3013200"/>
            <a:ext cx="740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ed when electrons are transferred from one atom to another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8670960" y="6213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shi25707_0204b"/>
          <p:cNvPicPr/>
          <p:nvPr/>
        </p:nvPicPr>
        <p:blipFill>
          <a:blip r:embed="rId1"/>
          <a:stretch/>
        </p:blipFill>
        <p:spPr>
          <a:xfrm>
            <a:off x="671400" y="3981600"/>
            <a:ext cx="3721320" cy="18414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4"/>
          <p:cNvSpPr/>
          <p:nvPr/>
        </p:nvSpPr>
        <p:spPr>
          <a:xfrm>
            <a:off x="473040" y="465948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145a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5"/>
          <p:cNvSpPr/>
          <p:nvPr/>
        </p:nvSpPr>
        <p:spPr>
          <a:xfrm>
            <a:off x="4429800" y="465300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145a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6"/>
          <p:cNvSpPr/>
          <p:nvPr/>
        </p:nvSpPr>
        <p:spPr>
          <a:xfrm>
            <a:off x="1341000" y="4753080"/>
            <a:ext cx="26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1p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8"/>
          <p:cNvSpPr/>
          <p:nvPr/>
        </p:nvSpPr>
        <p:spPr>
          <a:xfrm>
            <a:off x="1341000" y="4892760"/>
            <a:ext cx="25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2n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20"/>
          <p:cNvSpPr/>
          <p:nvPr/>
        </p:nvSpPr>
        <p:spPr>
          <a:xfrm>
            <a:off x="2779200" y="5824440"/>
            <a:ext cx="102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loride ion (Cl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3"/>
          <p:cNvSpPr/>
          <p:nvPr/>
        </p:nvSpPr>
        <p:spPr>
          <a:xfrm>
            <a:off x="977760" y="582444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dium ion (Na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29"/>
          <p:cNvSpPr/>
          <p:nvPr/>
        </p:nvSpPr>
        <p:spPr>
          <a:xfrm>
            <a:off x="1913400" y="6153120"/>
            <a:ext cx="992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dium chlor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reeform 30"/>
          <p:cNvSpPr/>
          <p:nvPr/>
        </p:nvSpPr>
        <p:spPr>
          <a:xfrm>
            <a:off x="949320" y="5986440"/>
            <a:ext cx="2908440" cy="100080"/>
          </a:xfrm>
          <a:custGeom>
            <a:avLst/>
            <a:gdLst>
              <a:gd name="textAreaLeft" fmla="*/ 0 w 2908440"/>
              <a:gd name="textAreaRight" fmla="*/ 2908800 w 290844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1832" h="63">
                <a:moveTo>
                  <a:pt x="6" y="0"/>
                </a:moveTo>
                <a:lnTo>
                  <a:pt x="6" y="60"/>
                </a:lnTo>
                <a:lnTo>
                  <a:pt x="3" y="57"/>
                </a:lnTo>
                <a:lnTo>
                  <a:pt x="1830" y="57"/>
                </a:lnTo>
                <a:lnTo>
                  <a:pt x="1827" y="60"/>
                </a:lnTo>
                <a:lnTo>
                  <a:pt x="1827" y="0"/>
                </a:lnTo>
                <a:lnTo>
                  <a:pt x="1832" y="0"/>
                </a:lnTo>
                <a:lnTo>
                  <a:pt x="1832" y="60"/>
                </a:lnTo>
                <a:lnTo>
                  <a:pt x="1830" y="63"/>
                </a:lnTo>
                <a:lnTo>
                  <a:pt x="3" y="63"/>
                </a:lnTo>
                <a:lnTo>
                  <a:pt x="0" y="60"/>
                </a:lnTo>
                <a:lnTo>
                  <a:pt x="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1"/>
          <p:cNvSpPr/>
          <p:nvPr/>
        </p:nvSpPr>
        <p:spPr>
          <a:xfrm>
            <a:off x="2381400" y="6076800"/>
            <a:ext cx="9360" cy="493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2"/>
          <p:cNvSpPr/>
          <p:nvPr/>
        </p:nvSpPr>
        <p:spPr>
          <a:xfrm>
            <a:off x="3341160" y="4753080"/>
            <a:ext cx="26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7p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4"/>
          <p:cNvSpPr/>
          <p:nvPr/>
        </p:nvSpPr>
        <p:spPr>
          <a:xfrm>
            <a:off x="3345840" y="4892760"/>
            <a:ext cx="25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8n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Box 35"/>
          <p:cNvSpPr/>
          <p:nvPr/>
        </p:nvSpPr>
        <p:spPr>
          <a:xfrm>
            <a:off x="266760" y="3821040"/>
            <a:ext cx="48466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shi25707_0204c"/>
          <p:cNvPicPr/>
          <p:nvPr/>
        </p:nvPicPr>
        <p:blipFill>
          <a:blip r:embed="rId2"/>
          <a:stretch/>
        </p:blipFill>
        <p:spPr>
          <a:xfrm>
            <a:off x="5816520" y="3841920"/>
            <a:ext cx="1712880" cy="17524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32"/>
          <p:cNvSpPr/>
          <p:nvPr/>
        </p:nvSpPr>
        <p:spPr>
          <a:xfrm>
            <a:off x="6341760" y="4433760"/>
            <a:ext cx="205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2"/>
          <p:cNvSpPr/>
          <p:nvPr/>
        </p:nvSpPr>
        <p:spPr>
          <a:xfrm>
            <a:off x="6735240" y="4570560"/>
            <a:ext cx="18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l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52"/>
          <p:cNvSpPr/>
          <p:nvPr/>
        </p:nvSpPr>
        <p:spPr>
          <a:xfrm>
            <a:off x="4497480" y="3673440"/>
            <a:ext cx="40114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0F9F-8687-4F62-9424-9D6F56EA7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valent Bo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666360" y="1828800"/>
            <a:ext cx="47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ed when atoms share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759960" y="5157720"/>
            <a:ext cx="466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gen atoms form single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gen atoms form two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trogen atoms form three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toms form four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6509160" y="5102280"/>
            <a:ext cx="147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≡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= C =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1" descr="shi25707_0205_1.jpg"/>
          <p:cNvPicPr/>
          <p:nvPr/>
        </p:nvPicPr>
        <p:blipFill>
          <a:blip r:embed="rId1"/>
          <a:stretch/>
        </p:blipFill>
        <p:spPr>
          <a:xfrm>
            <a:off x="228600" y="2782800"/>
            <a:ext cx="8686800" cy="21114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7"/>
          <p:cNvSpPr/>
          <p:nvPr/>
        </p:nvSpPr>
        <p:spPr>
          <a:xfrm>
            <a:off x="306000" y="4792680"/>
            <a:ext cx="148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ydrogen at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28"/>
          <p:cNvSpPr/>
          <p:nvPr/>
        </p:nvSpPr>
        <p:spPr>
          <a:xfrm>
            <a:off x="2173680" y="479268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29"/>
          <p:cNvSpPr/>
          <p:nvPr/>
        </p:nvSpPr>
        <p:spPr>
          <a:xfrm>
            <a:off x="985320" y="25495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30"/>
          <p:cNvSpPr/>
          <p:nvPr/>
        </p:nvSpPr>
        <p:spPr>
          <a:xfrm>
            <a:off x="6522120" y="4808520"/>
            <a:ext cx="18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ydrogen molec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31"/>
          <p:cNvSpPr/>
          <p:nvPr/>
        </p:nvSpPr>
        <p:spPr>
          <a:xfrm>
            <a:off x="7347960" y="2549520"/>
            <a:ext cx="21240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33"/>
          <p:cNvSpPr/>
          <p:nvPr/>
        </p:nvSpPr>
        <p:spPr>
          <a:xfrm>
            <a:off x="2696760" y="4792680"/>
            <a:ext cx="148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ydrogen at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34"/>
          <p:cNvSpPr/>
          <p:nvPr/>
        </p:nvSpPr>
        <p:spPr>
          <a:xfrm>
            <a:off x="3312720" y="25495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35"/>
          <p:cNvSpPr/>
          <p:nvPr/>
        </p:nvSpPr>
        <p:spPr>
          <a:xfrm>
            <a:off x="1006200" y="356724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6"/>
          <p:cNvSpPr/>
          <p:nvPr/>
        </p:nvSpPr>
        <p:spPr>
          <a:xfrm>
            <a:off x="3333600" y="356724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7"/>
          <p:cNvSpPr/>
          <p:nvPr/>
        </p:nvSpPr>
        <p:spPr>
          <a:xfrm>
            <a:off x="8010360" y="358308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8"/>
          <p:cNvSpPr/>
          <p:nvPr/>
        </p:nvSpPr>
        <p:spPr>
          <a:xfrm>
            <a:off x="6759360" y="358308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39"/>
          <p:cNvSpPr/>
          <p:nvPr/>
        </p:nvSpPr>
        <p:spPr>
          <a:xfrm>
            <a:off x="1035360" y="272736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40"/>
          <p:cNvSpPr/>
          <p:nvPr/>
        </p:nvSpPr>
        <p:spPr>
          <a:xfrm>
            <a:off x="3337200" y="272736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41"/>
          <p:cNvSpPr/>
          <p:nvPr/>
        </p:nvSpPr>
        <p:spPr>
          <a:xfrm>
            <a:off x="7431480" y="30160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42"/>
          <p:cNvSpPr/>
          <p:nvPr/>
        </p:nvSpPr>
        <p:spPr>
          <a:xfrm>
            <a:off x="7412400" y="40798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35"/>
          <p:cNvSpPr/>
          <p:nvPr/>
        </p:nvSpPr>
        <p:spPr>
          <a:xfrm>
            <a:off x="1477800" y="2306520"/>
            <a:ext cx="617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DAA5-069C-4F42-96A7-99C6E6F95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nding of Atoms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uctural Formu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533520" y="228600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ructural formul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ow how atoms bond and are arranged in various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Box 35"/>
          <p:cNvSpPr/>
          <p:nvPr/>
        </p:nvSpPr>
        <p:spPr>
          <a:xfrm>
            <a:off x="1477800" y="3429000"/>
            <a:ext cx="617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Box 4"/>
          <p:cNvSpPr/>
          <p:nvPr/>
        </p:nvSpPr>
        <p:spPr>
          <a:xfrm>
            <a:off x="7338600" y="40273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5"/>
          <p:cNvSpPr/>
          <p:nvPr/>
        </p:nvSpPr>
        <p:spPr>
          <a:xfrm>
            <a:off x="5308200" y="40244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8"/>
          <p:cNvSpPr/>
          <p:nvPr/>
        </p:nvSpPr>
        <p:spPr>
          <a:xfrm>
            <a:off x="8492760" y="40273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11"/>
          <p:cNvSpPr/>
          <p:nvPr/>
        </p:nvSpPr>
        <p:spPr>
          <a:xfrm>
            <a:off x="7760880" y="480060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traight Connector 13"/>
          <p:cNvSpPr/>
          <p:nvPr/>
        </p:nvSpPr>
        <p:spPr>
          <a:xfrm>
            <a:off x="7683480" y="4230720"/>
            <a:ext cx="304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traight Connector 14"/>
          <p:cNvSpPr/>
          <p:nvPr/>
        </p:nvSpPr>
        <p:spPr>
          <a:xfrm>
            <a:off x="7683480" y="4281480"/>
            <a:ext cx="304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Box 15"/>
          <p:cNvSpPr/>
          <p:nvPr/>
        </p:nvSpPr>
        <p:spPr>
          <a:xfrm>
            <a:off x="5177160" y="480528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Box 17"/>
          <p:cNvSpPr/>
          <p:nvPr/>
        </p:nvSpPr>
        <p:spPr>
          <a:xfrm>
            <a:off x="2673360" y="4800600"/>
            <a:ext cx="51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Box 18"/>
          <p:cNvSpPr/>
          <p:nvPr/>
        </p:nvSpPr>
        <p:spPr>
          <a:xfrm>
            <a:off x="478080" y="48006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Box 19"/>
          <p:cNvSpPr/>
          <p:nvPr/>
        </p:nvSpPr>
        <p:spPr>
          <a:xfrm>
            <a:off x="7923600" y="4021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traight Connector 20"/>
          <p:cNvSpPr/>
          <p:nvPr/>
        </p:nvSpPr>
        <p:spPr>
          <a:xfrm flipV="1">
            <a:off x="5650920" y="3949560"/>
            <a:ext cx="216720" cy="2145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traight Connector 21"/>
          <p:cNvSpPr/>
          <p:nvPr/>
        </p:nvSpPr>
        <p:spPr>
          <a:xfrm>
            <a:off x="5163840" y="3947760"/>
            <a:ext cx="214200" cy="216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Box 22"/>
          <p:cNvSpPr/>
          <p:nvPr/>
        </p:nvSpPr>
        <p:spPr>
          <a:xfrm>
            <a:off x="5671080" y="3567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Box 23"/>
          <p:cNvSpPr/>
          <p:nvPr/>
        </p:nvSpPr>
        <p:spPr>
          <a:xfrm>
            <a:off x="4956840" y="3557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Box 24"/>
          <p:cNvSpPr/>
          <p:nvPr/>
        </p:nvSpPr>
        <p:spPr>
          <a:xfrm>
            <a:off x="2431440" y="40305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25"/>
          <p:cNvSpPr/>
          <p:nvPr/>
        </p:nvSpPr>
        <p:spPr>
          <a:xfrm>
            <a:off x="2776680" y="4235400"/>
            <a:ext cx="3045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traight Connector 26"/>
          <p:cNvSpPr/>
          <p:nvPr/>
        </p:nvSpPr>
        <p:spPr>
          <a:xfrm>
            <a:off x="2776680" y="4284720"/>
            <a:ext cx="304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27"/>
          <p:cNvSpPr/>
          <p:nvPr/>
        </p:nvSpPr>
        <p:spPr>
          <a:xfrm>
            <a:off x="3015720" y="40244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28"/>
          <p:cNvSpPr/>
          <p:nvPr/>
        </p:nvSpPr>
        <p:spPr>
          <a:xfrm>
            <a:off x="219600" y="4024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traight Connector 29"/>
          <p:cNvSpPr/>
          <p:nvPr/>
        </p:nvSpPr>
        <p:spPr>
          <a:xfrm>
            <a:off x="563400" y="4254480"/>
            <a:ext cx="304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Box 31"/>
          <p:cNvSpPr/>
          <p:nvPr/>
        </p:nvSpPr>
        <p:spPr>
          <a:xfrm>
            <a:off x="803160" y="4027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traight Connector 34"/>
          <p:cNvSpPr/>
          <p:nvPr/>
        </p:nvSpPr>
        <p:spPr>
          <a:xfrm>
            <a:off x="8250120" y="4230720"/>
            <a:ext cx="304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traight Connector 35"/>
          <p:cNvSpPr/>
          <p:nvPr/>
        </p:nvSpPr>
        <p:spPr>
          <a:xfrm>
            <a:off x="8250120" y="4281480"/>
            <a:ext cx="304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56DE-79C6-424C-82BF-FA926E735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239240" cy="144792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nding of Atoms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ar Molec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609480" y="2209680"/>
            <a:ext cx="847908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olar Molec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lecule with a slightly negative end and a slightly positive 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ults when electrons are not shared equally in covalent bon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ater is an important polar molec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4" descr="shi25707_0208a"/>
          <p:cNvPicPr/>
          <p:nvPr/>
        </p:nvPicPr>
        <p:blipFill>
          <a:blip r:embed="rId1"/>
          <a:stretch/>
        </p:blipFill>
        <p:spPr>
          <a:xfrm>
            <a:off x="1638360" y="4429080"/>
            <a:ext cx="2076480" cy="18446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11"/>
          <p:cNvSpPr/>
          <p:nvPr/>
        </p:nvSpPr>
        <p:spPr>
          <a:xfrm>
            <a:off x="3526560" y="3930480"/>
            <a:ext cx="188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ghtly negative e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2"/>
          <p:cNvSpPr/>
          <p:nvPr/>
        </p:nvSpPr>
        <p:spPr>
          <a:xfrm>
            <a:off x="3641400" y="6566040"/>
            <a:ext cx="1834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ghtly positive e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reeform 14"/>
          <p:cNvSpPr/>
          <p:nvPr/>
        </p:nvSpPr>
        <p:spPr>
          <a:xfrm>
            <a:off x="2093760" y="6267600"/>
            <a:ext cx="1073160" cy="41724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417240"/>
              <a:gd name="textAreaBottom" fmla="*/ 417600 h 417240"/>
            </a:gdLst>
            <a:ahLst/>
            <a:rect l="textAreaLeft" t="textAreaTop" r="textAreaRight" b="textAreaBottom"/>
            <a:pathLst>
              <a:path w="676" h="263">
                <a:moveTo>
                  <a:pt x="597" y="3"/>
                </a:moveTo>
                <a:lnTo>
                  <a:pt x="676" y="259"/>
                </a:lnTo>
                <a:lnTo>
                  <a:pt x="676" y="263"/>
                </a:lnTo>
                <a:lnTo>
                  <a:pt x="672" y="263"/>
                </a:lnTo>
                <a:lnTo>
                  <a:pt x="0" y="7"/>
                </a:lnTo>
                <a:lnTo>
                  <a:pt x="4" y="0"/>
                </a:lnTo>
                <a:lnTo>
                  <a:pt x="676" y="256"/>
                </a:lnTo>
                <a:lnTo>
                  <a:pt x="668" y="263"/>
                </a:lnTo>
                <a:lnTo>
                  <a:pt x="587" y="7"/>
                </a:lnTo>
                <a:lnTo>
                  <a:pt x="597" y="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5"/>
          <p:cNvSpPr/>
          <p:nvPr/>
        </p:nvSpPr>
        <p:spPr>
          <a:xfrm>
            <a:off x="3159000" y="6672240"/>
            <a:ext cx="322560" cy="176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1902960" y="647532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4"/>
          <p:cNvSpPr/>
          <p:nvPr/>
        </p:nvSpPr>
        <p:spPr>
          <a:xfrm flipH="1">
            <a:off x="2057400" y="4114800"/>
            <a:ext cx="144792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5"/>
          <p:cNvSpPr/>
          <p:nvPr/>
        </p:nvSpPr>
        <p:spPr>
          <a:xfrm flipH="1">
            <a:off x="3200040" y="4114800"/>
            <a:ext cx="30492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27EB-DB16-45A3-A754-E7912E6E8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ydrogen Bo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380880" y="1981080"/>
            <a:ext cx="80010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ydrogen 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eak attraction between the positive end of one polar molecule and the negative end of another polar molec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ed between water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 for protein and nucleic acid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4" descr="shi25707_0208b"/>
          <p:cNvPicPr/>
          <p:nvPr/>
        </p:nvPicPr>
        <p:blipFill>
          <a:blip r:embed="rId1"/>
          <a:stretch/>
        </p:blipFill>
        <p:spPr>
          <a:xfrm>
            <a:off x="3017880" y="4119480"/>
            <a:ext cx="2744640" cy="26416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10"/>
          <p:cNvSpPr/>
          <p:nvPr/>
        </p:nvSpPr>
        <p:spPr>
          <a:xfrm>
            <a:off x="4284720" y="5253120"/>
            <a:ext cx="6120" cy="1364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11"/>
          <p:cNvSpPr/>
          <p:nvPr/>
        </p:nvSpPr>
        <p:spPr>
          <a:xfrm>
            <a:off x="4341960" y="5462640"/>
            <a:ext cx="117360" cy="44280"/>
          </a:xfrm>
          <a:custGeom>
            <a:avLst/>
            <a:gdLst>
              <a:gd name="textAreaLeft" fmla="*/ 0 w 117360"/>
              <a:gd name="textAreaRight" fmla="*/ 117720 w 11736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74" h="28">
                <a:moveTo>
                  <a:pt x="0" y="0"/>
                </a:moveTo>
                <a:lnTo>
                  <a:pt x="74" y="25"/>
                </a:lnTo>
                <a:lnTo>
                  <a:pt x="74" y="28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4075560" y="416880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3"/>
          <p:cNvSpPr/>
          <p:nvPr/>
        </p:nvSpPr>
        <p:spPr>
          <a:xfrm>
            <a:off x="4277160" y="511956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4"/>
          <p:cNvSpPr/>
          <p:nvPr/>
        </p:nvSpPr>
        <p:spPr>
          <a:xfrm>
            <a:off x="3494520" y="551664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5"/>
          <p:cNvSpPr/>
          <p:nvPr/>
        </p:nvSpPr>
        <p:spPr>
          <a:xfrm>
            <a:off x="5625000" y="576108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4505760" y="545472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3318480" y="588960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8"/>
          <p:cNvSpPr/>
          <p:nvPr/>
        </p:nvSpPr>
        <p:spPr>
          <a:xfrm>
            <a:off x="5443920" y="613872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9"/>
          <p:cNvSpPr/>
          <p:nvPr/>
        </p:nvSpPr>
        <p:spPr>
          <a:xfrm>
            <a:off x="3940560" y="613080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20"/>
          <p:cNvSpPr/>
          <p:nvPr/>
        </p:nvSpPr>
        <p:spPr>
          <a:xfrm>
            <a:off x="4155120" y="650412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1"/>
          <p:cNvSpPr/>
          <p:nvPr/>
        </p:nvSpPr>
        <p:spPr>
          <a:xfrm>
            <a:off x="4491360" y="421956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2"/>
          <p:cNvSpPr/>
          <p:nvPr/>
        </p:nvSpPr>
        <p:spPr>
          <a:xfrm>
            <a:off x="4295520" y="4383000"/>
            <a:ext cx="8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23"/>
          <p:cNvSpPr/>
          <p:nvPr/>
        </p:nvSpPr>
        <p:spPr>
          <a:xfrm>
            <a:off x="4273200" y="5389560"/>
            <a:ext cx="8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24"/>
          <p:cNvSpPr/>
          <p:nvPr/>
        </p:nvSpPr>
        <p:spPr>
          <a:xfrm>
            <a:off x="3219120" y="5595840"/>
            <a:ext cx="8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5"/>
          <p:cNvSpPr/>
          <p:nvPr/>
        </p:nvSpPr>
        <p:spPr>
          <a:xfrm>
            <a:off x="3881160" y="6442200"/>
            <a:ext cx="8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26"/>
          <p:cNvSpPr/>
          <p:nvPr/>
        </p:nvSpPr>
        <p:spPr>
          <a:xfrm>
            <a:off x="5362200" y="5857920"/>
            <a:ext cx="8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27"/>
          <p:cNvSpPr/>
          <p:nvPr/>
        </p:nvSpPr>
        <p:spPr>
          <a:xfrm>
            <a:off x="5218920" y="5197320"/>
            <a:ext cx="91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28"/>
          <p:cNvSpPr/>
          <p:nvPr/>
        </p:nvSpPr>
        <p:spPr>
          <a:xfrm>
            <a:off x="4316400" y="4937040"/>
            <a:ext cx="738360" cy="757440"/>
          </a:xfrm>
          <a:custGeom>
            <a:avLst/>
            <a:gdLst>
              <a:gd name="textAreaLeft" fmla="*/ 0 w 738360"/>
              <a:gd name="textAreaRight" fmla="*/ 738720 w 738360"/>
              <a:gd name="textAreaTop" fmla="*/ 0 h 757440"/>
              <a:gd name="textAreaBottom" fmla="*/ 757800 h 757440"/>
            </a:gdLst>
            <a:ahLst/>
            <a:rect l="textAreaLeft" t="textAreaTop" r="textAreaRight" b="textAreaBottom"/>
            <a:pathLst>
              <a:path w="465" h="477">
                <a:moveTo>
                  <a:pt x="0" y="0"/>
                </a:moveTo>
                <a:lnTo>
                  <a:pt x="462" y="206"/>
                </a:lnTo>
                <a:lnTo>
                  <a:pt x="465" y="206"/>
                </a:lnTo>
                <a:lnTo>
                  <a:pt x="362" y="477"/>
                </a:lnTo>
                <a:lnTo>
                  <a:pt x="359" y="477"/>
                </a:lnTo>
                <a:lnTo>
                  <a:pt x="462" y="206"/>
                </a:lnTo>
                <a:lnTo>
                  <a:pt x="462" y="210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29"/>
          <p:cNvSpPr/>
          <p:nvPr/>
        </p:nvSpPr>
        <p:spPr>
          <a:xfrm>
            <a:off x="5049720" y="5264280"/>
            <a:ext cx="130320" cy="6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30"/>
          <p:cNvSpPr/>
          <p:nvPr/>
        </p:nvSpPr>
        <p:spPr>
          <a:xfrm>
            <a:off x="3096000" y="6607080"/>
            <a:ext cx="146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0255-2BF5-482A-8BA5-25ACD562B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1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7"/>
          <p:cNvSpPr/>
          <p:nvPr/>
        </p:nvSpPr>
        <p:spPr>
          <a:xfrm>
            <a:off x="609480" y="228600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y study chemistry in 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natomy and Physiology cla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8"/>
          <p:cNvSpPr/>
          <p:nvPr/>
        </p:nvSpPr>
        <p:spPr>
          <a:xfrm>
            <a:off x="1198080" y="3699000"/>
            <a:ext cx="57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ody functions depend on cellular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9"/>
          <p:cNvSpPr/>
          <p:nvPr/>
        </p:nvSpPr>
        <p:spPr>
          <a:xfrm>
            <a:off x="1193760" y="4232160"/>
            <a:ext cx="622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ular functions result from chemical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1219320" y="4800600"/>
            <a:ext cx="74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chemistry helps to explain physiological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268F-7464-4B37-B943-E6BF3A9B4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295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2: Structure of Ma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669960" y="2098800"/>
            <a:ext cx="78645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at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anything that takes up space and has mass (weight).  It is composed of el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33520" y="3200400"/>
            <a:ext cx="77724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l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composed of chemically identical ato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l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s – required by the body in large am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 elements - required by the body in small am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ltratrace elements – required by the body in very minute am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685800" y="54100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to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smallest particle of an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BE3E-2A2C-4803-BA37-6CF7C53EF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able 2.1 Some Particles of Ma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7" descr="shi25707_t02_01"/>
          <p:cNvPicPr/>
          <p:nvPr/>
        </p:nvPicPr>
        <p:blipFill>
          <a:blip r:embed="rId1"/>
          <a:stretch/>
        </p:blipFill>
        <p:spPr>
          <a:xfrm>
            <a:off x="139680" y="2448000"/>
            <a:ext cx="88632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0B00-2133-4C48-A61A-FB466FBAB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ements and A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914400" y="2057400"/>
            <a:ext cx="73915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matter is composed of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s are the parts of  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lk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ltratrace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mallest parts of atoms are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24A2-411D-4B6E-B41E-AE1F862E9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457200" y="2022480"/>
            <a:ext cx="3216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to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omposed of      subatomic partic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t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carries a single positive ch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Neutr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carries no electrical ch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lectr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carries a single negative ch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457200" y="4648320"/>
            <a:ext cx="34448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ntral part of a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osed of protons and neutr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ectrons move around the nucle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Y:\scan\Nimas\Backup\Powerpoint-MH_DCM-Text Art Edit\SHIER-Text Edit\Final files\Chapter 02\Jpeg\Text edit Art\shi25707_0201.jpg"/>
          <p:cNvPicPr/>
          <p:nvPr/>
        </p:nvPicPr>
        <p:blipFill>
          <a:blip r:embed="rId1"/>
          <a:stretch/>
        </p:blipFill>
        <p:spPr>
          <a:xfrm>
            <a:off x="3610080" y="2367000"/>
            <a:ext cx="3968640" cy="38815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8"/>
          <p:cNvSpPr/>
          <p:nvPr/>
        </p:nvSpPr>
        <p:spPr>
          <a:xfrm>
            <a:off x="8045640" y="3849840"/>
            <a:ext cx="10188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ect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9"/>
          <p:cNvSpPr/>
          <p:nvPr/>
        </p:nvSpPr>
        <p:spPr>
          <a:xfrm>
            <a:off x="4825800" y="6381720"/>
            <a:ext cx="1384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thium (L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0"/>
          <p:cNvSpPr/>
          <p:nvPr/>
        </p:nvSpPr>
        <p:spPr>
          <a:xfrm>
            <a:off x="8045280" y="2986200"/>
            <a:ext cx="8208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Freeform 31"/>
          <p:cNvSpPr/>
          <p:nvPr/>
        </p:nvSpPr>
        <p:spPr>
          <a:xfrm>
            <a:off x="6243480" y="3087720"/>
            <a:ext cx="1735200" cy="892080"/>
          </a:xfrm>
          <a:custGeom>
            <a:avLst/>
            <a:gdLst>
              <a:gd name="textAreaLeft" fmla="*/ 0 w 1735200"/>
              <a:gd name="textAreaRight" fmla="*/ 1735560 w 1735200"/>
              <a:gd name="textAreaTop" fmla="*/ 0 h 892080"/>
              <a:gd name="textAreaBottom" fmla="*/ 892440 h 892080"/>
            </a:gdLst>
            <a:ahLst/>
            <a:rect l="textAreaLeft" t="textAreaTop" r="textAreaRight" b="textAreaBottom"/>
            <a:pathLst>
              <a:path w="1420" h="729">
                <a:moveTo>
                  <a:pt x="0" y="729"/>
                </a:moveTo>
                <a:lnTo>
                  <a:pt x="1197" y="0"/>
                </a:lnTo>
                <a:lnTo>
                  <a:pt x="142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8048520" y="2057400"/>
            <a:ext cx="9777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t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reeform 33"/>
          <p:cNvSpPr/>
          <p:nvPr/>
        </p:nvSpPr>
        <p:spPr>
          <a:xfrm>
            <a:off x="5908680" y="2162160"/>
            <a:ext cx="2073240" cy="1521000"/>
          </a:xfrm>
          <a:custGeom>
            <a:avLst/>
            <a:gdLst>
              <a:gd name="textAreaLeft" fmla="*/ 0 w 2073240"/>
              <a:gd name="textAreaRight" fmla="*/ 2073600 w 2073240"/>
              <a:gd name="textAreaTop" fmla="*/ 0 h 1521000"/>
              <a:gd name="textAreaBottom" fmla="*/ 1521360 h 1521000"/>
            </a:gdLst>
            <a:ahLst/>
            <a:rect l="textAreaLeft" t="textAreaTop" r="textAreaRight" b="textAreaBottom"/>
            <a:pathLst>
              <a:path w="1696" h="1244">
                <a:moveTo>
                  <a:pt x="0" y="1244"/>
                </a:moveTo>
                <a:lnTo>
                  <a:pt x="1382" y="0"/>
                </a:lnTo>
                <a:lnTo>
                  <a:pt x="169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4"/>
          <p:cNvSpPr/>
          <p:nvPr/>
        </p:nvSpPr>
        <p:spPr>
          <a:xfrm>
            <a:off x="8040960" y="5511960"/>
            <a:ext cx="991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reeform 35"/>
          <p:cNvSpPr/>
          <p:nvPr/>
        </p:nvSpPr>
        <p:spPr>
          <a:xfrm>
            <a:off x="6378480" y="4863960"/>
            <a:ext cx="1592280" cy="752760"/>
          </a:xfrm>
          <a:custGeom>
            <a:avLst/>
            <a:gdLst>
              <a:gd name="textAreaLeft" fmla="*/ 0 w 1592280"/>
              <a:gd name="textAreaRight" fmla="*/ 1592640 w 1592280"/>
              <a:gd name="textAreaTop" fmla="*/ 0 h 752760"/>
              <a:gd name="textAreaBottom" fmla="*/ 753120 h 752760"/>
            </a:gdLst>
            <a:ahLst/>
            <a:rect l="textAreaLeft" t="textAreaTop" r="textAreaRight" b="textAreaBottom"/>
            <a:pathLst>
              <a:path w="1303" h="615">
                <a:moveTo>
                  <a:pt x="0" y="0"/>
                </a:moveTo>
                <a:lnTo>
                  <a:pt x="992" y="615"/>
                </a:lnTo>
                <a:lnTo>
                  <a:pt x="1303" y="61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reeform 36"/>
          <p:cNvSpPr/>
          <p:nvPr/>
        </p:nvSpPr>
        <p:spPr>
          <a:xfrm>
            <a:off x="7545240" y="3951360"/>
            <a:ext cx="433440" cy="145800"/>
          </a:xfrm>
          <a:custGeom>
            <a:avLst/>
            <a:gdLst>
              <a:gd name="textAreaLeft" fmla="*/ 0 w 433440"/>
              <a:gd name="textAreaRight" fmla="*/ 433800 w 43344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355" h="119">
                <a:moveTo>
                  <a:pt x="0" y="119"/>
                </a:moveTo>
                <a:lnTo>
                  <a:pt x="139" y="0"/>
                </a:lnTo>
                <a:lnTo>
                  <a:pt x="35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37"/>
          <p:cNvSpPr/>
          <p:nvPr/>
        </p:nvSpPr>
        <p:spPr>
          <a:xfrm>
            <a:off x="5703840" y="4184640"/>
            <a:ext cx="806400" cy="971640"/>
          </a:xfrm>
          <a:custGeom>
            <a:avLst/>
            <a:gdLst>
              <a:gd name="textAreaLeft" fmla="*/ 0 w 806400"/>
              <a:gd name="textAreaRight" fmla="*/ 806760 w 806400"/>
              <a:gd name="textAreaTop" fmla="*/ 0 h 971640"/>
              <a:gd name="textAreaBottom" fmla="*/ 972000 h 971640"/>
            </a:gdLst>
            <a:ahLst/>
            <a:rect l="textAreaLeft" t="textAreaTop" r="textAreaRight" b="textAreaBottom"/>
            <a:pathLst>
              <a:path w="660" h="794">
                <a:moveTo>
                  <a:pt x="0" y="756"/>
                </a:moveTo>
                <a:lnTo>
                  <a:pt x="0" y="756"/>
                </a:lnTo>
                <a:lnTo>
                  <a:pt x="21" y="765"/>
                </a:lnTo>
                <a:lnTo>
                  <a:pt x="43" y="772"/>
                </a:lnTo>
                <a:lnTo>
                  <a:pt x="66" y="778"/>
                </a:lnTo>
                <a:lnTo>
                  <a:pt x="88" y="783"/>
                </a:lnTo>
                <a:lnTo>
                  <a:pt x="111" y="789"/>
                </a:lnTo>
                <a:lnTo>
                  <a:pt x="137" y="790"/>
                </a:lnTo>
                <a:lnTo>
                  <a:pt x="160" y="792"/>
                </a:lnTo>
                <a:lnTo>
                  <a:pt x="185" y="794"/>
                </a:lnTo>
                <a:lnTo>
                  <a:pt x="209" y="792"/>
                </a:lnTo>
                <a:lnTo>
                  <a:pt x="234" y="790"/>
                </a:lnTo>
                <a:lnTo>
                  <a:pt x="257" y="789"/>
                </a:lnTo>
                <a:lnTo>
                  <a:pt x="281" y="783"/>
                </a:lnTo>
                <a:lnTo>
                  <a:pt x="304" y="778"/>
                </a:lnTo>
                <a:lnTo>
                  <a:pt x="326" y="772"/>
                </a:lnTo>
                <a:lnTo>
                  <a:pt x="349" y="765"/>
                </a:lnTo>
                <a:lnTo>
                  <a:pt x="371" y="756"/>
                </a:lnTo>
                <a:lnTo>
                  <a:pt x="392" y="747"/>
                </a:lnTo>
                <a:lnTo>
                  <a:pt x="412" y="736"/>
                </a:lnTo>
                <a:lnTo>
                  <a:pt x="432" y="724"/>
                </a:lnTo>
                <a:lnTo>
                  <a:pt x="452" y="711"/>
                </a:lnTo>
                <a:lnTo>
                  <a:pt x="470" y="699"/>
                </a:lnTo>
                <a:lnTo>
                  <a:pt x="488" y="684"/>
                </a:lnTo>
                <a:lnTo>
                  <a:pt x="506" y="670"/>
                </a:lnTo>
                <a:lnTo>
                  <a:pt x="522" y="654"/>
                </a:lnTo>
                <a:lnTo>
                  <a:pt x="538" y="637"/>
                </a:lnTo>
                <a:lnTo>
                  <a:pt x="552" y="619"/>
                </a:lnTo>
                <a:lnTo>
                  <a:pt x="567" y="601"/>
                </a:lnTo>
                <a:lnTo>
                  <a:pt x="579" y="583"/>
                </a:lnTo>
                <a:lnTo>
                  <a:pt x="592" y="564"/>
                </a:lnTo>
                <a:lnTo>
                  <a:pt x="605" y="544"/>
                </a:lnTo>
                <a:lnTo>
                  <a:pt x="614" y="524"/>
                </a:lnTo>
                <a:lnTo>
                  <a:pt x="624" y="502"/>
                </a:lnTo>
                <a:lnTo>
                  <a:pt x="632" y="481"/>
                </a:lnTo>
                <a:lnTo>
                  <a:pt x="641" y="459"/>
                </a:lnTo>
                <a:lnTo>
                  <a:pt x="646" y="436"/>
                </a:lnTo>
                <a:lnTo>
                  <a:pt x="651" y="412"/>
                </a:lnTo>
                <a:lnTo>
                  <a:pt x="655" y="389"/>
                </a:lnTo>
                <a:lnTo>
                  <a:pt x="659" y="366"/>
                </a:lnTo>
                <a:lnTo>
                  <a:pt x="660" y="342"/>
                </a:lnTo>
                <a:lnTo>
                  <a:pt x="660" y="317"/>
                </a:lnTo>
                <a:lnTo>
                  <a:pt x="659" y="272"/>
                </a:lnTo>
                <a:lnTo>
                  <a:pt x="653" y="229"/>
                </a:lnTo>
                <a:lnTo>
                  <a:pt x="642" y="186"/>
                </a:lnTo>
                <a:lnTo>
                  <a:pt x="630" y="144"/>
                </a:lnTo>
                <a:lnTo>
                  <a:pt x="612" y="107"/>
                </a:lnTo>
                <a:lnTo>
                  <a:pt x="592" y="69"/>
                </a:lnTo>
                <a:lnTo>
                  <a:pt x="569" y="33"/>
                </a:lnTo>
                <a:lnTo>
                  <a:pt x="5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8"/>
          <p:cNvSpPr/>
          <p:nvPr/>
        </p:nvSpPr>
        <p:spPr>
          <a:xfrm>
            <a:off x="5472000" y="41846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9"/>
          <p:cNvSpPr/>
          <p:nvPr/>
        </p:nvSpPr>
        <p:spPr>
          <a:xfrm>
            <a:off x="5621400" y="3816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40"/>
          <p:cNvSpPr/>
          <p:nvPr/>
        </p:nvSpPr>
        <p:spPr>
          <a:xfrm>
            <a:off x="5211360" y="382752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41"/>
          <p:cNvSpPr/>
          <p:nvPr/>
        </p:nvSpPr>
        <p:spPr>
          <a:xfrm>
            <a:off x="5916240" y="404028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42"/>
          <p:cNvSpPr/>
          <p:nvPr/>
        </p:nvSpPr>
        <p:spPr>
          <a:xfrm>
            <a:off x="5811840" y="44164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43"/>
          <p:cNvSpPr/>
          <p:nvPr/>
        </p:nvSpPr>
        <p:spPr>
          <a:xfrm>
            <a:off x="5424120" y="456084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4"/>
          <p:cNvSpPr/>
          <p:nvPr/>
        </p:nvSpPr>
        <p:spPr>
          <a:xfrm>
            <a:off x="5102280" y="4259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5500800" y="252900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46"/>
          <p:cNvSpPr/>
          <p:nvPr/>
        </p:nvSpPr>
        <p:spPr>
          <a:xfrm>
            <a:off x="7427880" y="410544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47"/>
          <p:cNvSpPr/>
          <p:nvPr/>
        </p:nvSpPr>
        <p:spPr>
          <a:xfrm>
            <a:off x="5500800" y="573732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35"/>
          <p:cNvSpPr/>
          <p:nvPr/>
        </p:nvSpPr>
        <p:spPr>
          <a:xfrm>
            <a:off x="2660760" y="1857240"/>
            <a:ext cx="617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F9B2-FD4F-4915-8321-8F200B6DC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762120" y="152280"/>
            <a:ext cx="7772400" cy="13716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omic Numb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ss Number an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omic W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80880" y="1981080"/>
            <a:ext cx="82296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tomic Numb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protons in the nucleus of one at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element has a unique atomic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als the number of electrons in the a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80880" y="3352680"/>
            <a:ext cx="76964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ss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umber of protons plus the number of neutrons in one at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ons do not contribute to the weight of the a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80880" y="4648320"/>
            <a:ext cx="7696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tomic W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of mass number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an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CA42-A7A1-44CE-896B-A521E445F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822240" y="2022480"/>
            <a:ext cx="74836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s with the same atomic numbers but with different mass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number of neu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gen often forms isotopes (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DA21-7697-48B3-90F2-1EA5EE52D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lecules and Compo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669960" y="2174760"/>
            <a:ext cx="7635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olecu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particle formed when two or more atoms chemically comb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85800" y="3352680"/>
            <a:ext cx="7407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mpou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particle formed when two or more atoms of different elements chemically comb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746280" y="4765680"/>
            <a:ext cx="7254720" cy="13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olecular formul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depict the elements present and the number of each atom present in the molec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9:13:32Z</dcterms:created>
  <dc:creator>Dr. John McNamara</dc:creator>
  <dc:description/>
  <dc:language>en-US</dc:language>
  <cp:lastModifiedBy>pjc</cp:lastModifiedBy>
  <dcterms:modified xsi:type="dcterms:W3CDTF">2012-08-24T19:50:21Z</dcterms:modified>
  <cp:revision>125</cp:revision>
  <dc:subject>Chapter 2</dc:subject>
  <dc:title>PowerPoint to accompany  Hole’s Human Anatomy and Physiology 12e  Authors here</dc:title>
</cp:coreProperties>
</file>