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39ED-8384-450A-B406-9FC42365C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IGURE 1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41A-A197-4A76-BEA9-D34A0F08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B31-09E6-489C-97DC-13CD53AC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B2C-9ED2-41D7-B967-B5E625AD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FA5-902D-4093-B18C-ABA619B8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C9C-6F31-4D04-B8EE-E64B7402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D8F-9CB5-46B2-B9D9-95E8C8A9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316-A417-458F-B6BA-B5E8FD26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997-EF06-4569-8662-6401DDD8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72D-5F9C-4BD1-9568-30FF34DF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F37-88E3-4B82-96F5-F87B69E6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CE9-AAF7-450A-BCC3-D941C26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CD9-78A9-443D-87E7-F279E981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640B-1C6B-468B-ACED-A42E790CF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8C03-C82B-40D5-80F2-CB42FB668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le’s Human Anatomy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d Physiology</a:t>
            </a:r>
            <a:br>
              <a:rPr sz="3200"/>
            </a:b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welfth Edi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tl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w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520" y="3505320"/>
            <a:ext cx="3504960" cy="121896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roduction to Human Anatomy &amp; Phys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78920" y="6248520"/>
            <a:ext cx="512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798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191120" y="5562720"/>
            <a:ext cx="6570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DE42-6808-46FF-BE5F-F08D6C4AD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hi25707_0118_01"/>
          <p:cNvPicPr/>
          <p:nvPr/>
        </p:nvPicPr>
        <p:blipFill>
          <a:blip r:embed="rId1"/>
          <a:stretch/>
        </p:blipFill>
        <p:spPr>
          <a:xfrm>
            <a:off x="2862360" y="2089080"/>
            <a:ext cx="3470040" cy="4540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931480" y="6629400"/>
            <a:ext cx="155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le reproductiv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661280" y="6629400"/>
            <a:ext cx="170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male reproductiv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1501920" y="17812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CCBA-5457-424B-BDAE-9EF0D200B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1.1 Clinical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90720" y="243828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ltrasound (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gnetic Resonance Imaging (MR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F926-A41F-459A-98F5-15C349297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4: Characteristics of Life (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08640" y="2108160"/>
            <a:ext cx="53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hange in position; mo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10800" y="2717640"/>
            <a:ext cx="50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ponsiven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reaction to a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14400" y="3276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w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increase in body size; no change i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91440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ing oxygen; removing carbon dioxide; releasing energy from 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914400" y="3886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ro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oduction of new organisms and new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FEB2-5F62-4A6C-90A4-3681B5D8C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racteristics of Life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62120" y="2819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sor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ssage of substances through membranes and into body fl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120" y="3886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irc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vement of substances in body fl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62120" y="4572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imi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hanging of absorbed substances into chemically different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8380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re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emoval of wastes produced by metabolic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ges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reakdown of food substances into simpler 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0E29-1A3E-435E-946E-729CBDCBB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5: Maintenance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69960" y="2022480"/>
            <a:ext cx="7788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depends on five (5) environmental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6D68-22F3-4AE3-BBB6-DDE78033F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quirement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69960" y="2022480"/>
            <a:ext cx="77882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st abundant substance i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ired for metabol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ired for transport of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ulates body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46280" y="4384800"/>
            <a:ext cx="73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vides necessary 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ies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ies raw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0B94-90CE-4795-A8F2-33FCFF94A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quirement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09480" y="19810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xygen 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ne-fifth of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sed to release energy from nutr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9480" y="3387600"/>
            <a:ext cx="778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m of 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rtly controls rate of metabolic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520" y="4911840"/>
            <a:ext cx="778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pplication of force o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tmospheric pressure – important for brea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ydrostatic pressure – keeps blood fl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3A40-2318-4288-B6E7-310E5E818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sis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inta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stable intern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80880" y="243828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meostatic Control Mechanis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nitors aspects of the internal environment and corrects as needed. Variations are within limits. There are three (3)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p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vides information about the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trol 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ells what a particular value should be (called the set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f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elicits responses that change conditions in the intern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shi25707_0106_01"/>
          <p:cNvPicPr/>
          <p:nvPr/>
        </p:nvPicPr>
        <p:blipFill>
          <a:blip r:embed="rId1"/>
          <a:stretch/>
        </p:blipFill>
        <p:spPr>
          <a:xfrm>
            <a:off x="276120" y="2198520"/>
            <a:ext cx="8428320" cy="3938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411480" y="5191200"/>
            <a:ext cx="20138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occu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in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nvironment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430960" y="6064200"/>
            <a:ext cx="2814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is corrected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11120" y="3695760"/>
            <a:ext cx="130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011640" y="3727440"/>
            <a:ext cx="252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muscles or gland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2982960" y="2355840"/>
            <a:ext cx="1821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set point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2789280" y="3387600"/>
            <a:ext cx="2711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is compar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the set point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1301760" y="19447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8C39-8920-43C4-A8BF-6C38104EC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688E-F54B-4BE5-B5DC-DDE4E66D0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304920" y="85680"/>
            <a:ext cx="8534160" cy="7621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shi25707_0108"/>
          <p:cNvPicPr/>
          <p:nvPr/>
        </p:nvPicPr>
        <p:blipFill>
          <a:blip r:embed="rId1"/>
          <a:stretch/>
        </p:blipFill>
        <p:spPr>
          <a:xfrm>
            <a:off x="3243240" y="1077840"/>
            <a:ext cx="2612880" cy="56642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3317040" y="196704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rmo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nd signals to t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808800" y="3319560"/>
            <a:ext cx="30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oo hig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3827520" y="4165560"/>
            <a:ext cx="27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oo 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3738600" y="363708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ormal bod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37°C (98.6°F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878640" y="1274760"/>
            <a:ext cx="86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 hypothalam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tects the devi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m the set point 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gnals effector organ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3878640" y="5827680"/>
            <a:ext cx="86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 hypothalam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tects the devi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m the set point 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gnals effector organ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4897800" y="6219720"/>
            <a:ext cx="799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inues to drop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 sign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s to contra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voluntarily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5"/>
          <p:cNvSpPr/>
          <p:nvPr/>
        </p:nvSpPr>
        <p:spPr>
          <a:xfrm>
            <a:off x="3276360" y="2743200"/>
            <a:ext cx="7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ses above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8"/>
          <p:cNvSpPr/>
          <p:nvPr/>
        </p:nvSpPr>
        <p:spPr>
          <a:xfrm>
            <a:off x="4537440" y="19731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kin blood vesse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late and sweat glan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cret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4484160" y="27255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 is lost 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urroundings,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rops toward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6"/>
          <p:cNvSpPr/>
          <p:nvPr/>
        </p:nvSpPr>
        <p:spPr>
          <a:xfrm>
            <a:off x="3317040" y="506736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rmo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nd signals to t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4520160" y="5060880"/>
            <a:ext cx="642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kin bloo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vessels constri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d sweat glan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main inactiv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3273480" y="449280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rops below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0"/>
          <p:cNvSpPr/>
          <p:nvPr/>
        </p:nvSpPr>
        <p:spPr>
          <a:xfrm>
            <a:off x="5278320" y="506088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ener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4485600" y="4492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 is conserved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emperature rises toward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1501920" y="858960"/>
            <a:ext cx="6178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5DEC-7F94-4191-A8F9-32555446A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1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914400" y="228600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 and observations that have led to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about structure and function of the human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C2EF-5FDA-43E6-AC6F-2AACAF1B9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85800" y="23623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are two (2)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feedback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feedback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7273-EB7E-4644-ADD6-A9871BF13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84"/>
          <p:cNvSpPr/>
          <p:nvPr/>
        </p:nvSpPr>
        <p:spPr>
          <a:xfrm>
            <a:off x="304920" y="182880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gative feedback summa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sudden, severe change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s the se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 opposite of bodily disruption to occur, i.e. the ‘negativ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type of feedback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body temperature, blood pressure &amp; glucose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85"/>
          <p:cNvSpPr/>
          <p:nvPr/>
        </p:nvSpPr>
        <p:spPr>
          <a:xfrm>
            <a:off x="228600" y="457200"/>
            <a:ext cx="861048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A5A4-F9B1-4AB7-9103-6AE4B012A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1"/>
          <p:cNvSpPr/>
          <p:nvPr/>
        </p:nvSpPr>
        <p:spPr>
          <a:xfrm>
            <a:off x="533520" y="1447920"/>
            <a:ext cx="8076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sitive feedback summa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(accelerates) the actions of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require continuous adju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blood clotting and child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8487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2439-C5DF-4134-94E3-87EEAFDE6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6: Organiza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Human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shi25707_0109"/>
          <p:cNvPicPr/>
          <p:nvPr/>
        </p:nvPicPr>
        <p:blipFill>
          <a:blip r:embed="rId1"/>
          <a:stretch/>
        </p:blipFill>
        <p:spPr>
          <a:xfrm>
            <a:off x="1600200" y="2590920"/>
            <a:ext cx="1231920" cy="3889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2"/>
          <p:cNvSpPr/>
          <p:nvPr/>
        </p:nvSpPr>
        <p:spPr>
          <a:xfrm>
            <a:off x="453960" y="4114800"/>
            <a:ext cx="111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orac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1295280" y="5105520"/>
            <a:ext cx="78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457200" y="4495680"/>
            <a:ext cx="91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1672200" y="586728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lv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3022560" y="288288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i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3044520" y="335268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bral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1"/>
          <p:cNvSpPr/>
          <p:nvPr/>
        </p:nvSpPr>
        <p:spPr>
          <a:xfrm>
            <a:off x="1542960" y="4575240"/>
            <a:ext cx="5050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3"/>
          <p:cNvSpPr/>
          <p:nvPr/>
        </p:nvSpPr>
        <p:spPr>
          <a:xfrm>
            <a:off x="1600200" y="4191120"/>
            <a:ext cx="479520" cy="2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4"/>
          <p:cNvSpPr/>
          <p:nvPr/>
        </p:nvSpPr>
        <p:spPr>
          <a:xfrm>
            <a:off x="2311560" y="2930400"/>
            <a:ext cx="6872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5"/>
          <p:cNvSpPr/>
          <p:nvPr/>
        </p:nvSpPr>
        <p:spPr>
          <a:xfrm>
            <a:off x="2274840" y="3441600"/>
            <a:ext cx="7192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406440" y="6308640"/>
            <a:ext cx="12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shi25707_0109"/>
          <p:cNvPicPr/>
          <p:nvPr/>
        </p:nvPicPr>
        <p:blipFill>
          <a:blip r:embed="rId2"/>
          <a:stretch/>
        </p:blipFill>
        <p:spPr>
          <a:xfrm>
            <a:off x="5181480" y="2565360"/>
            <a:ext cx="2033640" cy="3835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2971440" y="5181480"/>
            <a:ext cx="118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opelv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89640" y="4890960"/>
            <a:ext cx="78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602960" y="559116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lv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67080" y="380988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ght ple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7314480" y="3908520"/>
            <a:ext cx="93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7292160" y="4111560"/>
            <a:ext cx="130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 pleur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416480" y="4267080"/>
            <a:ext cx="784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car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7293600" y="4575240"/>
            <a:ext cx="79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7291080" y="354168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bral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291440" y="279072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i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27560" y="403848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orac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4231080" y="5908680"/>
            <a:ext cx="19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486400" y="5029200"/>
            <a:ext cx="7761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105520" y="3962520"/>
            <a:ext cx="701640" cy="11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5562720" y="5715000"/>
            <a:ext cx="6793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 flipH="1">
            <a:off x="6413040" y="3962520"/>
            <a:ext cx="833400" cy="61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 flipH="1">
            <a:off x="6251040" y="3595680"/>
            <a:ext cx="10162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 flipH="1">
            <a:off x="6251040" y="2843280"/>
            <a:ext cx="10162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22"/>
          <p:cNvSpPr/>
          <p:nvPr/>
        </p:nvSpPr>
        <p:spPr>
          <a:xfrm>
            <a:off x="6553080" y="4114800"/>
            <a:ext cx="663840" cy="42840"/>
          </a:xfrm>
          <a:custGeom>
            <a:avLst/>
            <a:gdLst>
              <a:gd name="textAreaLeft" fmla="*/ 0 w 663840"/>
              <a:gd name="textAreaRight" fmla="*/ 664200 w 663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8" h="27">
                <a:moveTo>
                  <a:pt x="418" y="27"/>
                </a:moveTo>
                <a:lnTo>
                  <a:pt x="110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3"/>
          <p:cNvSpPr/>
          <p:nvPr/>
        </p:nvSpPr>
        <p:spPr>
          <a:xfrm>
            <a:off x="6477120" y="4621320"/>
            <a:ext cx="7714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4"/>
          <p:cNvSpPr/>
          <p:nvPr/>
        </p:nvSpPr>
        <p:spPr>
          <a:xfrm flipV="1">
            <a:off x="5105520" y="4266720"/>
            <a:ext cx="990360" cy="22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5"/>
          <p:cNvSpPr/>
          <p:nvPr/>
        </p:nvSpPr>
        <p:spPr>
          <a:xfrm>
            <a:off x="4449600" y="4941720"/>
            <a:ext cx="78120" cy="696960"/>
          </a:xfrm>
          <a:custGeom>
            <a:avLst/>
            <a:gdLst>
              <a:gd name="textAreaLeft" fmla="*/ 0 w 78120"/>
              <a:gd name="textAreaRight" fmla="*/ 78480 w 7812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37" h="338">
                <a:moveTo>
                  <a:pt x="37" y="338"/>
                </a:moveTo>
                <a:lnTo>
                  <a:pt x="0" y="338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4387680" y="5307120"/>
            <a:ext cx="59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7"/>
          <p:cNvSpPr/>
          <p:nvPr/>
        </p:nvSpPr>
        <p:spPr>
          <a:xfrm>
            <a:off x="4191120" y="3886200"/>
            <a:ext cx="75960" cy="609480"/>
          </a:xfrm>
          <a:custGeom>
            <a:avLst/>
            <a:gdLst>
              <a:gd name="textAreaLeft" fmla="*/ 0 w 75960"/>
              <a:gd name="textAreaRight" fmla="*/ 76320 w 759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7" h="252">
                <a:moveTo>
                  <a:pt x="37" y="252"/>
                </a:moveTo>
                <a:lnTo>
                  <a:pt x="0" y="252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4114440" y="4191120"/>
            <a:ext cx="58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31"/>
          <p:cNvSpPr/>
          <p:nvPr/>
        </p:nvSpPr>
        <p:spPr>
          <a:xfrm>
            <a:off x="6248520" y="3733920"/>
            <a:ext cx="171360" cy="838080"/>
          </a:xfrm>
          <a:custGeom>
            <a:avLst/>
            <a:gdLst>
              <a:gd name="textAreaLeft" fmla="*/ 0 w 171360"/>
              <a:gd name="textAreaRight" fmla="*/ 171720 w 171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80" h="391">
                <a:moveTo>
                  <a:pt x="0" y="0"/>
                </a:moveTo>
                <a:lnTo>
                  <a:pt x="80" y="0"/>
                </a:lnTo>
                <a:lnTo>
                  <a:pt x="80" y="391"/>
                </a:lnTo>
                <a:lnTo>
                  <a:pt x="43" y="39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F6E4-8D52-41F2-BAF8-DA888075E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oracic &amp; Abdominal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ous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32767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oracic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le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le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car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car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45280" y="2133720"/>
            <a:ext cx="55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sceral la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vers an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ietal la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ines a cavity or body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419720" y="32767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dominopelvic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to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to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3667-AFB9-41F8-9B96-4CB9B2893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rous Membr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shi25707_0111_01"/>
          <p:cNvPicPr/>
          <p:nvPr/>
        </p:nvPicPr>
        <p:blipFill>
          <a:blip r:embed="rId1"/>
          <a:stretch/>
        </p:blipFill>
        <p:spPr>
          <a:xfrm>
            <a:off x="4876920" y="2819520"/>
            <a:ext cx="3686040" cy="2606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4"/>
          <p:cNvSpPr/>
          <p:nvPr/>
        </p:nvSpPr>
        <p:spPr>
          <a:xfrm>
            <a:off x="1670040" y="17971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" descr="shi25707_0112_01"/>
          <p:cNvPicPr/>
          <p:nvPr/>
        </p:nvPicPr>
        <p:blipFill>
          <a:blip r:embed="rId2"/>
          <a:stretch/>
        </p:blipFill>
        <p:spPr>
          <a:xfrm>
            <a:off x="533520" y="2666880"/>
            <a:ext cx="42670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E2BC-BB8C-4B29-A52E-418C59CA4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7: Lifespan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85800" y="2514600"/>
            <a:ext cx="7848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ging occurs from the microscopic level to the whole-body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n you think of some examp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74674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A78C-4B3B-44BA-9319-C797774AF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8: Anatomica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69960" y="2098800"/>
            <a:ext cx="451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atomical 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tanding erect, facing forward, upper limbs at the sides, palms facing forward and thumb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shi25707_0113_01"/>
          <p:cNvPicPr/>
          <p:nvPr/>
        </p:nvPicPr>
        <p:blipFill>
          <a:blip r:embed="rId1"/>
          <a:stretch/>
        </p:blipFill>
        <p:spPr>
          <a:xfrm>
            <a:off x="5835600" y="2116080"/>
            <a:ext cx="2325600" cy="42991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5863680" y="6461280"/>
            <a:ext cx="16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4"/>
          <p:cNvSpPr/>
          <p:nvPr/>
        </p:nvSpPr>
        <p:spPr>
          <a:xfrm>
            <a:off x="4572000" y="1969920"/>
            <a:ext cx="438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7077-8B04-40B0-BFFB-B51C5AED3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tomical Terminology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entation and Directional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85800" y="2286000"/>
            <a:ext cx="792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erms of Relative Position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anatomical posi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ior versus Inferior (Cranial vs. Caud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rior versus Posterior (Ventral vs. Do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versus 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si-lateral versus Contra-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imal versus D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ficial versus D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versus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4DD2-F967-4D2D-A333-7FED2E7F5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 or Pl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520" y="2057400"/>
            <a:ext cx="8076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gittal or Me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left and right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-sagittal – divides body into equal left and right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verse or Horizo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superior and inferior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onal or Fro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anterior and posterior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18AE-319F-4F46-BF39-DD41D4FD1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95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2: Anatomy &amp; Physi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38080" y="21337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atom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study of the structure of the huma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study of the function of the huma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920" y="4876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complementarity of structure and functio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A37-4869-4CF5-A320-FF5F5CB23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" descr="shi25707_0121_01"/>
          <p:cNvPicPr/>
          <p:nvPr/>
        </p:nvPicPr>
        <p:blipFill>
          <a:blip r:embed="rId1"/>
          <a:stretch/>
        </p:blipFill>
        <p:spPr>
          <a:xfrm>
            <a:off x="1287360" y="2038320"/>
            <a:ext cx="6458040" cy="42372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314360" y="5952960"/>
            <a:ext cx="134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a fron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273000" y="4842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a transve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1314720" y="349236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n 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5455800" y="3368520"/>
            <a:ext cx="55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Transver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horizont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2894760" y="5789520"/>
            <a:ext cx="436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ron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cor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5456880" y="2757600"/>
            <a:ext cx="57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rasagit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4"/>
          <p:cNvSpPr/>
          <p:nvPr/>
        </p:nvSpPr>
        <p:spPr>
          <a:xfrm>
            <a:off x="2791440" y="2722680"/>
            <a:ext cx="607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midsagitt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5594400" y="3760920"/>
            <a:ext cx="1440" cy="260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309840" y="5853240"/>
            <a:ext cx="1634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9"/>
          <p:cNvSpPr/>
          <p:nvPr/>
        </p:nvSpPr>
        <p:spPr>
          <a:xfrm>
            <a:off x="3056040" y="2597040"/>
            <a:ext cx="331560" cy="130320"/>
          </a:xfrm>
          <a:custGeom>
            <a:avLst/>
            <a:gdLst>
              <a:gd name="textAreaLeft" fmla="*/ 0 w 331560"/>
              <a:gd name="textAreaRight" fmla="*/ 331920 w 3315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82" h="118">
                <a:moveTo>
                  <a:pt x="0" y="118"/>
                </a:moveTo>
                <a:lnTo>
                  <a:pt x="0" y="0"/>
                </a:lnTo>
                <a:lnTo>
                  <a:pt x="282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30"/>
          <p:cNvSpPr/>
          <p:nvPr/>
        </p:nvSpPr>
        <p:spPr>
          <a:xfrm>
            <a:off x="5421240" y="2597040"/>
            <a:ext cx="308160" cy="141480"/>
          </a:xfrm>
          <a:custGeom>
            <a:avLst/>
            <a:gdLst>
              <a:gd name="textAreaLeft" fmla="*/ 0 w 308160"/>
              <a:gd name="textAreaRight" fmla="*/ 308520 w 308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261" h="129">
                <a:moveTo>
                  <a:pt x="261" y="129"/>
                </a:moveTo>
                <a:lnTo>
                  <a:pt x="26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33C1-B014-493A-8AA2-B37F71358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2" descr="shi25707_0122_01"/>
          <p:cNvPicPr/>
          <p:nvPr/>
        </p:nvPicPr>
        <p:blipFill>
          <a:blip r:embed="rId1"/>
          <a:stretch/>
        </p:blipFill>
        <p:spPr>
          <a:xfrm>
            <a:off x="228600" y="1522440"/>
            <a:ext cx="8686800" cy="45338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6"/>
          <p:cNvSpPr/>
          <p:nvPr/>
        </p:nvSpPr>
        <p:spPr>
          <a:xfrm>
            <a:off x="289800" y="611964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187080" y="6119640"/>
            <a:ext cx="18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6162120" y="611964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c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E837-E120-4FB5-9D28-D7001FC5A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1" descr="Y:\Scan\Graphics-Department Server\Job Folder\Powerpoint-Work\Powerpoint-MH_DCM-Text Art Edit\SHIER-Text Edit\Final files\OLD\CH01\old\TextEdit Art - Jpegs\shi25707_01_23.jpg"/>
          <p:cNvPicPr/>
          <p:nvPr/>
        </p:nvPicPr>
        <p:blipFill>
          <a:blip r:embed="rId1"/>
          <a:stretch/>
        </p:blipFill>
        <p:spPr>
          <a:xfrm>
            <a:off x="1444680" y="2049480"/>
            <a:ext cx="6254640" cy="44672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1503720" y="6531120"/>
            <a:ext cx="23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643200" y="6531120"/>
            <a:ext cx="24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5820120" y="6531120"/>
            <a:ext cx="23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371600" y="4114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2"/>
          <p:cNvSpPr/>
          <p:nvPr/>
        </p:nvSpPr>
        <p:spPr>
          <a:xfrm rot="19919400">
            <a:off x="335268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lique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 rot="16200000">
            <a:off x="4114080" y="4268160"/>
            <a:ext cx="4878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itudinal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1A28-7AF6-43B1-AEAA-1A5FC2A89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dominal Sub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shi25707_0124a"/>
          <p:cNvPicPr/>
          <p:nvPr/>
        </p:nvPicPr>
        <p:blipFill>
          <a:blip r:embed="rId1"/>
          <a:stretch/>
        </p:blipFill>
        <p:spPr>
          <a:xfrm>
            <a:off x="228600" y="1828800"/>
            <a:ext cx="4233960" cy="4343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8"/>
          <p:cNvSpPr/>
          <p:nvPr/>
        </p:nvSpPr>
        <p:spPr>
          <a:xfrm>
            <a:off x="301680" y="2895480"/>
            <a:ext cx="1274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chondr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989280" y="3886200"/>
            <a:ext cx="59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65240" y="4800600"/>
            <a:ext cx="544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7"/>
          <p:cNvSpPr/>
          <p:nvPr/>
        </p:nvSpPr>
        <p:spPr>
          <a:xfrm>
            <a:off x="1825920" y="3048120"/>
            <a:ext cx="86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igas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1902240" y="3962520"/>
            <a:ext cx="794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bil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1825920" y="4876920"/>
            <a:ext cx="102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gas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2968560" y="2895480"/>
            <a:ext cx="1274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chondr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6"/>
          <p:cNvSpPr/>
          <p:nvPr/>
        </p:nvSpPr>
        <p:spPr>
          <a:xfrm>
            <a:off x="2970360" y="3886200"/>
            <a:ext cx="59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2970360" y="4800600"/>
            <a:ext cx="544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4" descr="shi25707_0124b"/>
          <p:cNvPicPr/>
          <p:nvPr/>
        </p:nvPicPr>
        <p:blipFill>
          <a:blip r:embed="rId2"/>
          <a:stretch/>
        </p:blipFill>
        <p:spPr>
          <a:xfrm>
            <a:off x="4648320" y="1828800"/>
            <a:ext cx="3975120" cy="41911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8"/>
          <p:cNvSpPr/>
          <p:nvPr/>
        </p:nvSpPr>
        <p:spPr>
          <a:xfrm>
            <a:off x="5410080" y="320040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u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RU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6705720" y="3200400"/>
            <a:ext cx="1295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u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LU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5410080" y="426708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RL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705720" y="4267080"/>
            <a:ext cx="1085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LL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9E6-C9C9-4A51-BA84-6991A30DB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shi25707_0125_01"/>
          <p:cNvPicPr/>
          <p:nvPr/>
        </p:nvPicPr>
        <p:blipFill>
          <a:blip r:embed="rId1"/>
          <a:stretch/>
        </p:blipFill>
        <p:spPr>
          <a:xfrm>
            <a:off x="2790720" y="1965240"/>
            <a:ext cx="3538800" cy="4581720"/>
          </a:xfrm>
          <a:prstGeom prst="rect">
            <a:avLst/>
          </a:prstGeom>
          <a:ln w="0">
            <a:noFill/>
          </a:ln>
        </p:spPr>
      </p:pic>
      <p:sp>
        <p:nvSpPr>
          <p:cNvPr id="305" name="Line 6"/>
          <p:cNvSpPr/>
          <p:nvPr/>
        </p:nvSpPr>
        <p:spPr>
          <a:xfrm>
            <a:off x="3235320" y="2643120"/>
            <a:ext cx="30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3235320" y="2513160"/>
            <a:ext cx="431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3235320" y="2421000"/>
            <a:ext cx="4111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9"/>
          <p:cNvSpPr/>
          <p:nvPr/>
        </p:nvSpPr>
        <p:spPr>
          <a:xfrm>
            <a:off x="3225960" y="2284560"/>
            <a:ext cx="222120" cy="61920"/>
          </a:xfrm>
          <a:custGeom>
            <a:avLst/>
            <a:gdLst>
              <a:gd name="textAreaLeft" fmla="*/ 0 w 222120"/>
              <a:gd name="textAreaRight" fmla="*/ 222480 w 22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86" h="53">
                <a:moveTo>
                  <a:pt x="186" y="53"/>
                </a:moveTo>
                <a:lnTo>
                  <a:pt x="68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2757600" y="2832120"/>
            <a:ext cx="482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1"/>
          <p:cNvSpPr/>
          <p:nvPr/>
        </p:nvSpPr>
        <p:spPr>
          <a:xfrm flipH="1">
            <a:off x="2754360" y="3195720"/>
            <a:ext cx="622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2754360" y="3063960"/>
            <a:ext cx="523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2757600" y="3357720"/>
            <a:ext cx="423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2754360" y="3624120"/>
            <a:ext cx="3668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5"/>
          <p:cNvSpPr/>
          <p:nvPr/>
        </p:nvSpPr>
        <p:spPr>
          <a:xfrm>
            <a:off x="2755800" y="3836880"/>
            <a:ext cx="77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6"/>
          <p:cNvSpPr/>
          <p:nvPr/>
        </p:nvSpPr>
        <p:spPr>
          <a:xfrm>
            <a:off x="2754360" y="4068720"/>
            <a:ext cx="325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17"/>
          <p:cNvSpPr/>
          <p:nvPr/>
        </p:nvSpPr>
        <p:spPr>
          <a:xfrm>
            <a:off x="2751120" y="4240080"/>
            <a:ext cx="273240" cy="68400"/>
          </a:xfrm>
          <a:custGeom>
            <a:avLst/>
            <a:gdLst>
              <a:gd name="textAreaLeft" fmla="*/ 0 w 273240"/>
              <a:gd name="textAreaRight" fmla="*/ 273600 w 2732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28" h="57">
                <a:moveTo>
                  <a:pt x="228" y="0"/>
                </a:moveTo>
                <a:lnTo>
                  <a:pt x="53" y="57"/>
                </a:lnTo>
                <a:lnTo>
                  <a:pt x="0" y="5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8"/>
          <p:cNvSpPr/>
          <p:nvPr/>
        </p:nvSpPr>
        <p:spPr>
          <a:xfrm>
            <a:off x="2754360" y="4438800"/>
            <a:ext cx="250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9"/>
          <p:cNvSpPr/>
          <p:nvPr/>
        </p:nvSpPr>
        <p:spPr>
          <a:xfrm>
            <a:off x="2755800" y="4664160"/>
            <a:ext cx="20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0"/>
          <p:cNvSpPr/>
          <p:nvPr/>
        </p:nvSpPr>
        <p:spPr>
          <a:xfrm>
            <a:off x="3114720" y="4417920"/>
            <a:ext cx="522360" cy="623880"/>
          </a:xfrm>
          <a:custGeom>
            <a:avLst/>
            <a:gdLst>
              <a:gd name="textAreaLeft" fmla="*/ 0 w 522360"/>
              <a:gd name="textAreaRight" fmla="*/ 522720 w 5223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6" h="525">
                <a:moveTo>
                  <a:pt x="436" y="0"/>
                </a:moveTo>
                <a:lnTo>
                  <a:pt x="60" y="525"/>
                </a:lnTo>
                <a:lnTo>
                  <a:pt x="0" y="52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1"/>
          <p:cNvSpPr/>
          <p:nvPr/>
        </p:nvSpPr>
        <p:spPr>
          <a:xfrm>
            <a:off x="3930480" y="5826240"/>
            <a:ext cx="397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2"/>
          <p:cNvSpPr/>
          <p:nvPr/>
        </p:nvSpPr>
        <p:spPr>
          <a:xfrm>
            <a:off x="3119400" y="5273640"/>
            <a:ext cx="372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3"/>
          <p:cNvSpPr/>
          <p:nvPr/>
        </p:nvSpPr>
        <p:spPr>
          <a:xfrm flipH="1">
            <a:off x="3112920" y="6210360"/>
            <a:ext cx="416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4"/>
          <p:cNvSpPr/>
          <p:nvPr/>
        </p:nvSpPr>
        <p:spPr>
          <a:xfrm>
            <a:off x="3714840" y="2073240"/>
            <a:ext cx="3873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5"/>
          <p:cNvSpPr/>
          <p:nvPr/>
        </p:nvSpPr>
        <p:spPr>
          <a:xfrm>
            <a:off x="3657600" y="2203560"/>
            <a:ext cx="447840" cy="48960"/>
          </a:xfrm>
          <a:custGeom>
            <a:avLst/>
            <a:gdLst>
              <a:gd name="textAreaLeft" fmla="*/ 0 w 447840"/>
              <a:gd name="textAreaRight" fmla="*/ 448200 w 4478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74" h="42">
                <a:moveTo>
                  <a:pt x="374" y="0"/>
                </a:moveTo>
                <a:lnTo>
                  <a:pt x="42" y="0"/>
                </a:lnTo>
                <a:lnTo>
                  <a:pt x="0" y="42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26"/>
          <p:cNvSpPr/>
          <p:nvPr/>
        </p:nvSpPr>
        <p:spPr>
          <a:xfrm>
            <a:off x="3657600" y="2203560"/>
            <a:ext cx="444600" cy="47520"/>
          </a:xfrm>
          <a:custGeom>
            <a:avLst/>
            <a:gdLst>
              <a:gd name="textAreaLeft" fmla="*/ 0 w 444600"/>
              <a:gd name="textAreaRight" fmla="*/ 444960 w 4446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72" h="40">
                <a:moveTo>
                  <a:pt x="372" y="0"/>
                </a:moveTo>
                <a:lnTo>
                  <a:pt x="41" y="0"/>
                </a:lnTo>
                <a:lnTo>
                  <a:pt x="0" y="4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7"/>
          <p:cNvSpPr/>
          <p:nvPr/>
        </p:nvSpPr>
        <p:spPr>
          <a:xfrm>
            <a:off x="3733920" y="2340000"/>
            <a:ext cx="368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8"/>
          <p:cNvSpPr/>
          <p:nvPr/>
        </p:nvSpPr>
        <p:spPr>
          <a:xfrm>
            <a:off x="3781440" y="2468520"/>
            <a:ext cx="320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9"/>
          <p:cNvSpPr/>
          <p:nvPr/>
        </p:nvSpPr>
        <p:spPr>
          <a:xfrm>
            <a:off x="3666960" y="2595600"/>
            <a:ext cx="435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30"/>
          <p:cNvSpPr/>
          <p:nvPr/>
        </p:nvSpPr>
        <p:spPr>
          <a:xfrm>
            <a:off x="3666960" y="2779560"/>
            <a:ext cx="598680" cy="109800"/>
          </a:xfrm>
          <a:custGeom>
            <a:avLst/>
            <a:gdLst>
              <a:gd name="textAreaLeft" fmla="*/ 0 w 598680"/>
              <a:gd name="textAreaRight" fmla="*/ 599040 w 59868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01" h="92">
                <a:moveTo>
                  <a:pt x="0" y="92"/>
                </a:moveTo>
                <a:lnTo>
                  <a:pt x="429" y="0"/>
                </a:lnTo>
                <a:lnTo>
                  <a:pt x="501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1"/>
          <p:cNvSpPr/>
          <p:nvPr/>
        </p:nvSpPr>
        <p:spPr>
          <a:xfrm flipH="1">
            <a:off x="3890520" y="2936880"/>
            <a:ext cx="381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2"/>
          <p:cNvSpPr/>
          <p:nvPr/>
        </p:nvSpPr>
        <p:spPr>
          <a:xfrm flipH="1">
            <a:off x="4032360" y="4159080"/>
            <a:ext cx="395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33"/>
          <p:cNvSpPr/>
          <p:nvPr/>
        </p:nvSpPr>
        <p:spPr>
          <a:xfrm>
            <a:off x="3827520" y="3808440"/>
            <a:ext cx="598320" cy="331920"/>
          </a:xfrm>
          <a:custGeom>
            <a:avLst/>
            <a:gdLst>
              <a:gd name="textAreaLeft" fmla="*/ 0 w 598320"/>
              <a:gd name="textAreaRight" fmla="*/ 598680 w 59832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500" h="279">
                <a:moveTo>
                  <a:pt x="0" y="279"/>
                </a:moveTo>
                <a:lnTo>
                  <a:pt x="416" y="0"/>
                </a:lnTo>
                <a:lnTo>
                  <a:pt x="50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34"/>
          <p:cNvSpPr/>
          <p:nvPr/>
        </p:nvSpPr>
        <p:spPr>
          <a:xfrm>
            <a:off x="3666960" y="3560760"/>
            <a:ext cx="684360" cy="249120"/>
          </a:xfrm>
          <a:custGeom>
            <a:avLst/>
            <a:gdLst>
              <a:gd name="textAreaLeft" fmla="*/ 0 w 684360"/>
              <a:gd name="textAreaRight" fmla="*/ 684720 w 684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573" h="210">
                <a:moveTo>
                  <a:pt x="0" y="210"/>
                </a:moveTo>
                <a:lnTo>
                  <a:pt x="503" y="0"/>
                </a:lnTo>
                <a:lnTo>
                  <a:pt x="573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5"/>
          <p:cNvSpPr/>
          <p:nvPr/>
        </p:nvSpPr>
        <p:spPr>
          <a:xfrm flipH="1">
            <a:off x="3877920" y="6288120"/>
            <a:ext cx="407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6"/>
          <p:cNvSpPr/>
          <p:nvPr/>
        </p:nvSpPr>
        <p:spPr>
          <a:xfrm>
            <a:off x="5415120" y="2411280"/>
            <a:ext cx="83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37"/>
          <p:cNvSpPr/>
          <p:nvPr/>
        </p:nvSpPr>
        <p:spPr>
          <a:xfrm>
            <a:off x="5918040" y="2867040"/>
            <a:ext cx="3333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38"/>
          <p:cNvSpPr/>
          <p:nvPr/>
        </p:nvSpPr>
        <p:spPr>
          <a:xfrm>
            <a:off x="5438880" y="3076560"/>
            <a:ext cx="8110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39"/>
          <p:cNvSpPr/>
          <p:nvPr/>
        </p:nvSpPr>
        <p:spPr>
          <a:xfrm>
            <a:off x="5946840" y="3298680"/>
            <a:ext cx="311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40"/>
          <p:cNvSpPr/>
          <p:nvPr/>
        </p:nvSpPr>
        <p:spPr>
          <a:xfrm>
            <a:off x="5700600" y="3490920"/>
            <a:ext cx="557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41"/>
          <p:cNvSpPr/>
          <p:nvPr/>
        </p:nvSpPr>
        <p:spPr>
          <a:xfrm>
            <a:off x="5961240" y="3641760"/>
            <a:ext cx="296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42"/>
          <p:cNvSpPr/>
          <p:nvPr/>
        </p:nvSpPr>
        <p:spPr>
          <a:xfrm>
            <a:off x="5611680" y="3780000"/>
            <a:ext cx="646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3"/>
          <p:cNvSpPr/>
          <p:nvPr/>
        </p:nvSpPr>
        <p:spPr>
          <a:xfrm>
            <a:off x="5457960" y="4059360"/>
            <a:ext cx="799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44"/>
          <p:cNvSpPr/>
          <p:nvPr/>
        </p:nvSpPr>
        <p:spPr>
          <a:xfrm>
            <a:off x="5689440" y="4178160"/>
            <a:ext cx="56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45"/>
          <p:cNvSpPr/>
          <p:nvPr/>
        </p:nvSpPr>
        <p:spPr>
          <a:xfrm>
            <a:off x="5472000" y="4357800"/>
            <a:ext cx="88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6"/>
          <p:cNvSpPr/>
          <p:nvPr/>
        </p:nvSpPr>
        <p:spPr>
          <a:xfrm flipH="1">
            <a:off x="5635800" y="4975200"/>
            <a:ext cx="488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7"/>
          <p:cNvSpPr/>
          <p:nvPr/>
        </p:nvSpPr>
        <p:spPr>
          <a:xfrm flipH="1">
            <a:off x="5592600" y="5241960"/>
            <a:ext cx="5320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48"/>
          <p:cNvSpPr/>
          <p:nvPr/>
        </p:nvSpPr>
        <p:spPr>
          <a:xfrm flipH="1">
            <a:off x="4749480" y="5497560"/>
            <a:ext cx="523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9"/>
          <p:cNvSpPr/>
          <p:nvPr/>
        </p:nvSpPr>
        <p:spPr>
          <a:xfrm flipH="1">
            <a:off x="5621400" y="643428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0"/>
          <p:cNvSpPr/>
          <p:nvPr/>
        </p:nvSpPr>
        <p:spPr>
          <a:xfrm>
            <a:off x="2862720" y="2228760"/>
            <a:ext cx="337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tic (ea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1"/>
          <p:cNvSpPr/>
          <p:nvPr/>
        </p:nvSpPr>
        <p:spPr>
          <a:xfrm>
            <a:off x="2647080" y="2581200"/>
            <a:ext cx="54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rvical (ne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2"/>
          <p:cNvSpPr/>
          <p:nvPr/>
        </p:nvSpPr>
        <p:spPr>
          <a:xfrm>
            <a:off x="2052360" y="2784600"/>
            <a:ext cx="68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rom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point of should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4"/>
          <p:cNvSpPr/>
          <p:nvPr/>
        </p:nvSpPr>
        <p:spPr>
          <a:xfrm>
            <a:off x="2054880" y="3138480"/>
            <a:ext cx="65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mmary (brea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5"/>
          <p:cNvSpPr/>
          <p:nvPr/>
        </p:nvSpPr>
        <p:spPr>
          <a:xfrm>
            <a:off x="2420640" y="3314880"/>
            <a:ext cx="302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rach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7"/>
          <p:cNvSpPr/>
          <p:nvPr/>
        </p:nvSpPr>
        <p:spPr>
          <a:xfrm>
            <a:off x="2161440" y="3581280"/>
            <a:ext cx="561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tecub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ront of elbow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2255760" y="4021200"/>
            <a:ext cx="465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tebrach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ore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1"/>
          <p:cNvSpPr/>
          <p:nvPr/>
        </p:nvSpPr>
        <p:spPr>
          <a:xfrm>
            <a:off x="2287080" y="5000760"/>
            <a:ext cx="794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en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reproductive organ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3"/>
          <p:cNvSpPr/>
          <p:nvPr/>
        </p:nvSpPr>
        <p:spPr>
          <a:xfrm>
            <a:off x="4111200" y="2028960"/>
            <a:ext cx="57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phalic (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4"/>
          <p:cNvSpPr/>
          <p:nvPr/>
        </p:nvSpPr>
        <p:spPr>
          <a:xfrm>
            <a:off x="4112280" y="2293920"/>
            <a:ext cx="68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rbital (eye cavit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5"/>
          <p:cNvSpPr/>
          <p:nvPr/>
        </p:nvSpPr>
        <p:spPr>
          <a:xfrm>
            <a:off x="4110840" y="2560680"/>
            <a:ext cx="47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ntal (ch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6"/>
          <p:cNvSpPr/>
          <p:nvPr/>
        </p:nvSpPr>
        <p:spPr>
          <a:xfrm>
            <a:off x="4282560" y="2733840"/>
            <a:ext cx="259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er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7"/>
          <p:cNvSpPr/>
          <p:nvPr/>
        </p:nvSpPr>
        <p:spPr>
          <a:xfrm>
            <a:off x="4289040" y="2911320"/>
            <a:ext cx="302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c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he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9"/>
          <p:cNvSpPr/>
          <p:nvPr/>
        </p:nvSpPr>
        <p:spPr>
          <a:xfrm>
            <a:off x="4443120" y="3762360"/>
            <a:ext cx="296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gui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gro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1"/>
          <p:cNvSpPr/>
          <p:nvPr/>
        </p:nvSpPr>
        <p:spPr>
          <a:xfrm>
            <a:off x="4446000" y="4113360"/>
            <a:ext cx="209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x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hip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73"/>
          <p:cNvSpPr/>
          <p:nvPr/>
        </p:nvSpPr>
        <p:spPr>
          <a:xfrm>
            <a:off x="4366080" y="3514680"/>
            <a:ext cx="340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Umbil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nave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75"/>
          <p:cNvSpPr/>
          <p:nvPr/>
        </p:nvSpPr>
        <p:spPr>
          <a:xfrm>
            <a:off x="4297320" y="6249960"/>
            <a:ext cx="42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dal (foo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76"/>
          <p:cNvSpPr/>
          <p:nvPr/>
        </p:nvSpPr>
        <p:spPr>
          <a:xfrm>
            <a:off x="6271920" y="2374920"/>
            <a:ext cx="52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ccip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back of 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78"/>
          <p:cNvSpPr/>
          <p:nvPr/>
        </p:nvSpPr>
        <p:spPr>
          <a:xfrm>
            <a:off x="6268680" y="2817720"/>
            <a:ext cx="68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rom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point of should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0"/>
          <p:cNvSpPr/>
          <p:nvPr/>
        </p:nvSpPr>
        <p:spPr>
          <a:xfrm>
            <a:off x="6275520" y="3257640"/>
            <a:ext cx="51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rachial (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1"/>
          <p:cNvSpPr/>
          <p:nvPr/>
        </p:nvSpPr>
        <p:spPr>
          <a:xfrm>
            <a:off x="6274440" y="3433680"/>
            <a:ext cx="53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orsum (ba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82"/>
          <p:cNvSpPr/>
          <p:nvPr/>
        </p:nvSpPr>
        <p:spPr>
          <a:xfrm>
            <a:off x="6270840" y="3611520"/>
            <a:ext cx="55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ubital (elbow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3"/>
          <p:cNvSpPr/>
          <p:nvPr/>
        </p:nvSpPr>
        <p:spPr>
          <a:xfrm>
            <a:off x="6270480" y="4140360"/>
            <a:ext cx="655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luteal (buttock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84"/>
          <p:cNvSpPr/>
          <p:nvPr/>
        </p:nvSpPr>
        <p:spPr>
          <a:xfrm>
            <a:off x="6273720" y="4316400"/>
            <a:ext cx="38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rine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85"/>
          <p:cNvSpPr/>
          <p:nvPr/>
        </p:nvSpPr>
        <p:spPr>
          <a:xfrm>
            <a:off x="6133680" y="4925880"/>
            <a:ext cx="56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emoral (thig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86"/>
          <p:cNvSpPr/>
          <p:nvPr/>
        </p:nvSpPr>
        <p:spPr>
          <a:xfrm>
            <a:off x="6131880" y="5189400"/>
            <a:ext cx="860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opliteal (back of kne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87"/>
          <p:cNvSpPr/>
          <p:nvPr/>
        </p:nvSpPr>
        <p:spPr>
          <a:xfrm>
            <a:off x="6135480" y="638820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lantar (so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88"/>
          <p:cNvSpPr/>
          <p:nvPr/>
        </p:nvSpPr>
        <p:spPr>
          <a:xfrm>
            <a:off x="2067840" y="6473880"/>
            <a:ext cx="95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9"/>
          <p:cNvSpPr/>
          <p:nvPr/>
        </p:nvSpPr>
        <p:spPr>
          <a:xfrm>
            <a:off x="4594320" y="6475320"/>
            <a:ext cx="99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0"/>
          <p:cNvSpPr/>
          <p:nvPr/>
        </p:nvSpPr>
        <p:spPr>
          <a:xfrm>
            <a:off x="2582280" y="5232240"/>
            <a:ext cx="518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tell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ront of kne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92"/>
          <p:cNvSpPr/>
          <p:nvPr/>
        </p:nvSpPr>
        <p:spPr>
          <a:xfrm>
            <a:off x="6271200" y="3025800"/>
            <a:ext cx="569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Verteb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pinal colum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5"/>
          <p:cNvSpPr/>
          <p:nvPr/>
        </p:nvSpPr>
        <p:spPr>
          <a:xfrm>
            <a:off x="6273360" y="4006800"/>
            <a:ext cx="79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acral (between hip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96"/>
          <p:cNvSpPr/>
          <p:nvPr/>
        </p:nvSpPr>
        <p:spPr>
          <a:xfrm>
            <a:off x="6274800" y="3727440"/>
            <a:ext cx="448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lower ba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98"/>
          <p:cNvSpPr/>
          <p:nvPr/>
        </p:nvSpPr>
        <p:spPr>
          <a:xfrm>
            <a:off x="2320200" y="3790800"/>
            <a:ext cx="397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bdome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00"/>
          <p:cNvSpPr/>
          <p:nvPr/>
        </p:nvSpPr>
        <p:spPr>
          <a:xfrm>
            <a:off x="2227680" y="4262400"/>
            <a:ext cx="48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rpal (wri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1"/>
          <p:cNvSpPr/>
          <p:nvPr/>
        </p:nvSpPr>
        <p:spPr>
          <a:xfrm>
            <a:off x="2209680" y="4398840"/>
            <a:ext cx="50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lmar (pal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02"/>
          <p:cNvSpPr/>
          <p:nvPr/>
        </p:nvSpPr>
        <p:spPr>
          <a:xfrm>
            <a:off x="2193480" y="461628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gital (fing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3"/>
          <p:cNvSpPr/>
          <p:nvPr/>
        </p:nvSpPr>
        <p:spPr>
          <a:xfrm>
            <a:off x="2739960" y="2359080"/>
            <a:ext cx="45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asal (nos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4"/>
          <p:cNvSpPr/>
          <p:nvPr/>
        </p:nvSpPr>
        <p:spPr>
          <a:xfrm>
            <a:off x="2734200" y="247032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ral (mout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5"/>
          <p:cNvSpPr/>
          <p:nvPr/>
        </p:nvSpPr>
        <p:spPr>
          <a:xfrm>
            <a:off x="4110840" y="2154240"/>
            <a:ext cx="65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ntal (fore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06"/>
          <p:cNvSpPr/>
          <p:nvPr/>
        </p:nvSpPr>
        <p:spPr>
          <a:xfrm>
            <a:off x="4113000" y="2422440"/>
            <a:ext cx="543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uccal (chee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07"/>
          <p:cNvSpPr/>
          <p:nvPr/>
        </p:nvSpPr>
        <p:spPr>
          <a:xfrm>
            <a:off x="2556720" y="6161040"/>
            <a:ext cx="4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8"/>
          <p:cNvSpPr/>
          <p:nvPr/>
        </p:nvSpPr>
        <p:spPr>
          <a:xfrm>
            <a:off x="2599920" y="6161040"/>
            <a:ext cx="47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rsal (instep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109"/>
          <p:cNvSpPr/>
          <p:nvPr/>
        </p:nvSpPr>
        <p:spPr>
          <a:xfrm>
            <a:off x="3121200" y="6408720"/>
            <a:ext cx="298440" cy="58680"/>
          </a:xfrm>
          <a:custGeom>
            <a:avLst/>
            <a:gdLst>
              <a:gd name="textAreaLeft" fmla="*/ 0 w 298440"/>
              <a:gd name="textAreaRight" fmla="*/ 298800 w 298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50" h="50">
                <a:moveTo>
                  <a:pt x="250" y="0"/>
                </a:moveTo>
                <a:lnTo>
                  <a:pt x="206" y="50"/>
                </a:lnTo>
                <a:lnTo>
                  <a:pt x="0" y="5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10"/>
          <p:cNvSpPr/>
          <p:nvPr/>
        </p:nvSpPr>
        <p:spPr>
          <a:xfrm>
            <a:off x="2665440" y="6418440"/>
            <a:ext cx="42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gital (to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11"/>
          <p:cNvSpPr/>
          <p:nvPr/>
        </p:nvSpPr>
        <p:spPr>
          <a:xfrm>
            <a:off x="2131200" y="3011400"/>
            <a:ext cx="58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xillary (armpi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12"/>
          <p:cNvSpPr/>
          <p:nvPr/>
        </p:nvSpPr>
        <p:spPr>
          <a:xfrm>
            <a:off x="4340520" y="5778360"/>
            <a:ext cx="40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rural (le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13"/>
          <p:cNvSpPr/>
          <p:nvPr/>
        </p:nvSpPr>
        <p:spPr>
          <a:xfrm>
            <a:off x="4317840" y="5445000"/>
            <a:ext cx="39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ural (calf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14"/>
          <p:cNvSpPr/>
          <p:nvPr/>
        </p:nvSpPr>
        <p:spPr>
          <a:xfrm>
            <a:off x="4778280" y="5826240"/>
            <a:ext cx="505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Box 24"/>
          <p:cNvSpPr/>
          <p:nvPr/>
        </p:nvSpPr>
        <p:spPr>
          <a:xfrm>
            <a:off x="1479600" y="1766880"/>
            <a:ext cx="617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47CA-78BC-49BF-AAC3-19C204706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3: Levels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27"/>
          <p:cNvSpPr/>
          <p:nvPr/>
        </p:nvSpPr>
        <p:spPr>
          <a:xfrm>
            <a:off x="685800" y="1676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atomic Particle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, protons, and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hydrogen atom, lithium ato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8"/>
          <p:cNvSpPr/>
          <p:nvPr/>
        </p:nvSpPr>
        <p:spPr>
          <a:xfrm>
            <a:off x="685800" y="2514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water molecule, glucose molecul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685800" y="2971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cro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otein molecule, DNA molecule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0"/>
          <p:cNvSpPr/>
          <p:nvPr/>
        </p:nvSpPr>
        <p:spPr>
          <a:xfrm>
            <a:off x="685800" y="3429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el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itochondrion, Golgi apparatus, nucleu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1"/>
          <p:cNvSpPr/>
          <p:nvPr/>
        </p:nvSpPr>
        <p:spPr>
          <a:xfrm>
            <a:off x="685800" y="3962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uscle cell, nerve cell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2"/>
          <p:cNvSpPr/>
          <p:nvPr/>
        </p:nvSpPr>
        <p:spPr>
          <a:xfrm>
            <a:off x="685800" y="4419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iss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epithelia, connective, muscle and n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33"/>
          <p:cNvSpPr/>
          <p:nvPr/>
        </p:nvSpPr>
        <p:spPr>
          <a:xfrm>
            <a:off x="685800" y="4800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kin, femur, heart, kidney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34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 Sys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keletal system, digestive syste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35"/>
          <p:cNvSpPr/>
          <p:nvPr/>
        </p:nvSpPr>
        <p:spPr>
          <a:xfrm>
            <a:off x="685800" y="5638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is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shi25707_0103_01"/>
          <p:cNvPicPr/>
          <p:nvPr/>
        </p:nvPicPr>
        <p:blipFill>
          <a:blip r:embed="rId1"/>
          <a:stretch/>
        </p:blipFill>
        <p:spPr>
          <a:xfrm>
            <a:off x="1219320" y="2057400"/>
            <a:ext cx="670536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1467720" y="2108160"/>
            <a:ext cx="971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545120" y="277020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1708920" y="348948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2361600" y="4379760"/>
            <a:ext cx="74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cromolec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2841480" y="4896000"/>
            <a:ext cx="4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3166560" y="5483160"/>
            <a:ext cx="18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3852720" y="566748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0"/>
          <p:cNvSpPr/>
          <p:nvPr/>
        </p:nvSpPr>
        <p:spPr>
          <a:xfrm>
            <a:off x="3946320" y="4664160"/>
            <a:ext cx="3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4343760" y="3416400"/>
            <a:ext cx="68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6293880" y="495792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24"/>
          <p:cNvSpPr/>
          <p:nvPr/>
        </p:nvSpPr>
        <p:spPr>
          <a:xfrm>
            <a:off x="1301760" y="1828800"/>
            <a:ext cx="617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3152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2985-33BA-44BB-9B84-3984BF447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shi25707_0114_01"/>
          <p:cNvPicPr/>
          <p:nvPr/>
        </p:nvPicPr>
        <p:blipFill>
          <a:blip r:embed="rId1"/>
          <a:stretch/>
        </p:blipFill>
        <p:spPr>
          <a:xfrm>
            <a:off x="4419720" y="2057400"/>
            <a:ext cx="3387600" cy="4305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4"/>
          <p:cNvSpPr/>
          <p:nvPr/>
        </p:nvSpPr>
        <p:spPr>
          <a:xfrm>
            <a:off x="4566960" y="6248520"/>
            <a:ext cx="1340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320520" y="6324480"/>
            <a:ext cx="144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shi25707_0113_01"/>
          <p:cNvPicPr/>
          <p:nvPr/>
        </p:nvPicPr>
        <p:blipFill>
          <a:blip r:embed="rId2"/>
          <a:stretch/>
        </p:blipFill>
        <p:spPr>
          <a:xfrm>
            <a:off x="1417680" y="2133720"/>
            <a:ext cx="2243160" cy="4203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1365480" y="6248520"/>
            <a:ext cx="19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73152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B110-74DD-43D7-B3C9-67E91EB9C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shi25707_0115"/>
          <p:cNvPicPr/>
          <p:nvPr/>
        </p:nvPicPr>
        <p:blipFill>
          <a:blip r:embed="rId1"/>
          <a:stretch/>
        </p:blipFill>
        <p:spPr>
          <a:xfrm>
            <a:off x="2058840" y="2100240"/>
            <a:ext cx="5042160" cy="4403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2306520" y="6408720"/>
            <a:ext cx="1271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804200" y="6473880"/>
            <a:ext cx="141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211E-5D92-43E9-86FA-38B32B7C6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shi25707_0116_01"/>
          <p:cNvPicPr/>
          <p:nvPr/>
        </p:nvPicPr>
        <p:blipFill>
          <a:blip r:embed="rId1"/>
          <a:stretch/>
        </p:blipFill>
        <p:spPr>
          <a:xfrm>
            <a:off x="2835360" y="2057400"/>
            <a:ext cx="3432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2813760" y="6400800"/>
            <a:ext cx="167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873320" y="6477120"/>
            <a:ext cx="133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mphat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23888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9685-FE8E-41F4-A0CC-8AC917F8E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shi25707_0117_01"/>
          <p:cNvPicPr/>
          <p:nvPr/>
        </p:nvPicPr>
        <p:blipFill>
          <a:blip r:embed="rId1"/>
          <a:stretch/>
        </p:blipFill>
        <p:spPr>
          <a:xfrm>
            <a:off x="2021040" y="2057400"/>
            <a:ext cx="5130720" cy="4492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205360" y="6523200"/>
            <a:ext cx="125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76840" y="652320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782320" y="6523200"/>
            <a:ext cx="110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in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1501920" y="17812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13:32Z</dcterms:created>
  <dc:creator>Dr. John McNamara</dc:creator>
  <dc:description/>
  <dc:language>en-US</dc:language>
  <cp:lastModifiedBy>Jason Taylor</cp:lastModifiedBy>
  <dcterms:modified xsi:type="dcterms:W3CDTF">2011-08-17T15:09:43Z</dcterms:modified>
  <cp:revision>98</cp:revision>
  <dc:subject>Chapter 1</dc:subject>
  <dc:title>PowerPoint to accompany  Hole’s Human Anatomy and Physiology 12e  Authors here</dc:title>
</cp:coreProperties>
</file>