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0AB-747D-46B4-B34F-D3B45C8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C50-A5DC-4A54-B6EA-BA27C08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6FD-E06E-4C80-ACC2-91D60C9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DE3-1754-4B5A-AD51-73789F84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E45-A05B-465D-A323-5A7799A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B12-675A-415A-A78C-D6124472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8EC-4E20-4CD5-B5B7-9E74516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7BE-A7FB-4BDC-BF1E-7AF4ABA2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6A-5193-47B2-BEFC-E8F6BB6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D39-3564-4CC7-AEF8-CDF4A35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144-675E-44EE-8AD5-7498E4D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714-D098-426B-B63D-F172381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E2E-7D00-4D82-B293-35A4CB0BC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B76-D885-4546-8CB6-67517CEF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Basi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AAF-83F0-46C9-B8CE-11893F1A6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0574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form when atoms combine with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of an atom occupy regions of spac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ectron sh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circl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oms with atomic numbers of 18 or less, the following rules a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shell can hold up to 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DBB-2687-4DD7-A2EA-A1480CD2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hells are fi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621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utermost shell is full, the atom is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" descr="shi25707_0203_1.jpg"/>
          <p:cNvPicPr/>
          <p:nvPr/>
        </p:nvPicPr>
        <p:blipFill>
          <a:blip r:embed="rId1"/>
          <a:stretch/>
        </p:blipFill>
        <p:spPr>
          <a:xfrm>
            <a:off x="152280" y="2671920"/>
            <a:ext cx="868680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8760" y="2863800"/>
            <a:ext cx="83484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489000" y="5934240"/>
            <a:ext cx="152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337560" y="5934240"/>
            <a:ext cx="155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lium (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42800" y="5934240"/>
            <a:ext cx="176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gen (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222920" y="39956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05216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042440" y="51418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25964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32792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428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26600" y="372888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026600" y="42512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8681040" y="3976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7187400" y="28512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7187400" y="51228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7160040" y="4049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7315560" y="36543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882480" y="36687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30200" y="3894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517160" y="429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783840" y="4148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7106400" y="44467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1401840" y="24256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7DC-EBCB-4738-8684-C1F17C37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46280" y="1971720"/>
            <a:ext cx="786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electrons to becom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ctrically charged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5800" y="3276720"/>
            <a:ext cx="4419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loses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5800" y="4495680"/>
            <a:ext cx="4495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g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67096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i25707_0204a"/>
          <p:cNvPicPr/>
          <p:nvPr/>
        </p:nvPicPr>
        <p:blipFill>
          <a:blip r:embed="rId1"/>
          <a:stretch/>
        </p:blipFill>
        <p:spPr>
          <a:xfrm>
            <a:off x="4805280" y="2895480"/>
            <a:ext cx="3929040" cy="182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550692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0764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935240" y="4878360"/>
            <a:ext cx="1201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 atom (N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434720" y="48783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ne atom (C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777060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777132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B802-D024-4743-A7B7-AA37141FD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84240" y="2362320"/>
            <a:ext cx="57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traction between a cation and an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3320" y="181944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50840" y="301320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electrons are transferred from one atom to anothe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shi25707_0204b"/>
          <p:cNvPicPr/>
          <p:nvPr/>
        </p:nvPicPr>
        <p:blipFill>
          <a:blip r:embed="rId1"/>
          <a:stretch/>
        </p:blipFill>
        <p:spPr>
          <a:xfrm>
            <a:off x="671400" y="3981600"/>
            <a:ext cx="3721320" cy="1841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4"/>
          <p:cNvSpPr/>
          <p:nvPr/>
        </p:nvSpPr>
        <p:spPr>
          <a:xfrm>
            <a:off x="473040" y="465948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4429800" y="4653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34100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34100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779200" y="582444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loride ion (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977760" y="582444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ion (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913400" y="615312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949320" y="5986440"/>
            <a:ext cx="2908440" cy="1000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832" h="63">
                <a:moveTo>
                  <a:pt x="6" y="0"/>
                </a:moveTo>
                <a:lnTo>
                  <a:pt x="6" y="60"/>
                </a:lnTo>
                <a:lnTo>
                  <a:pt x="3" y="57"/>
                </a:lnTo>
                <a:lnTo>
                  <a:pt x="1830" y="57"/>
                </a:lnTo>
                <a:lnTo>
                  <a:pt x="1827" y="60"/>
                </a:lnTo>
                <a:lnTo>
                  <a:pt x="1827" y="0"/>
                </a:lnTo>
                <a:lnTo>
                  <a:pt x="1832" y="0"/>
                </a:lnTo>
                <a:lnTo>
                  <a:pt x="1832" y="60"/>
                </a:lnTo>
                <a:lnTo>
                  <a:pt x="1830" y="63"/>
                </a:lnTo>
                <a:lnTo>
                  <a:pt x="3" y="63"/>
                </a:lnTo>
                <a:lnTo>
                  <a:pt x="0" y="60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2381400" y="6076800"/>
            <a:ext cx="9360" cy="4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334116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34584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266760" y="3821040"/>
            <a:ext cx="484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shi25707_0204c"/>
          <p:cNvPicPr/>
          <p:nvPr/>
        </p:nvPicPr>
        <p:blipFill>
          <a:blip r:embed="rId2"/>
          <a:stretch/>
        </p:blipFill>
        <p:spPr>
          <a:xfrm>
            <a:off x="5816520" y="3841920"/>
            <a:ext cx="171288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2"/>
          <p:cNvSpPr/>
          <p:nvPr/>
        </p:nvSpPr>
        <p:spPr>
          <a:xfrm>
            <a:off x="6341760" y="4433760"/>
            <a:ext cx="20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6735240" y="4570560"/>
            <a:ext cx="18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2"/>
          <p:cNvSpPr/>
          <p:nvPr/>
        </p:nvSpPr>
        <p:spPr>
          <a:xfrm>
            <a:off x="4497480" y="3673440"/>
            <a:ext cx="4011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F2C-1FF5-4893-B29F-82053FAC2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valent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66360" y="1828800"/>
            <a:ext cx="47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atoms shar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9960" y="5157720"/>
            <a:ext cx="46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atoms form singl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atoms form two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atoms form thre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toms form fou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509160" y="5102280"/>
            <a:ext cx="14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≡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shi25707_0205_1.jpg"/>
          <p:cNvPicPr/>
          <p:nvPr/>
        </p:nvPicPr>
        <p:blipFill>
          <a:blip r:embed="rId1"/>
          <a:stretch/>
        </p:blipFill>
        <p:spPr>
          <a:xfrm>
            <a:off x="228600" y="2782800"/>
            <a:ext cx="8686800" cy="2111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7"/>
          <p:cNvSpPr/>
          <p:nvPr/>
        </p:nvSpPr>
        <p:spPr>
          <a:xfrm>
            <a:off x="30600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173680" y="47926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9853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6522120" y="480852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7347960" y="254952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269676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3127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0062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33336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010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759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103536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333720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7431480" y="30160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412400" y="4079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1477800" y="23065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93D6-F552-49D9-9DB5-C3784E6A8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335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al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how atoms bond and are arranged in various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1477800" y="342900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33860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30820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849276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760880" y="4800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13"/>
          <p:cNvSpPr/>
          <p:nvPr/>
        </p:nvSpPr>
        <p:spPr>
          <a:xfrm>
            <a:off x="768348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14"/>
          <p:cNvSpPr/>
          <p:nvPr/>
        </p:nvSpPr>
        <p:spPr>
          <a:xfrm>
            <a:off x="768348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177160" y="48052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673360" y="480060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78080" y="4800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7923600" y="402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20"/>
          <p:cNvSpPr/>
          <p:nvPr/>
        </p:nvSpPr>
        <p:spPr>
          <a:xfrm flipV="1">
            <a:off x="5650920" y="3949560"/>
            <a:ext cx="216720" cy="21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1"/>
          <p:cNvSpPr/>
          <p:nvPr/>
        </p:nvSpPr>
        <p:spPr>
          <a:xfrm>
            <a:off x="5163840" y="3947760"/>
            <a:ext cx="214200" cy="21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671080" y="356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956840" y="35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2431440" y="403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5"/>
          <p:cNvSpPr/>
          <p:nvPr/>
        </p:nvSpPr>
        <p:spPr>
          <a:xfrm>
            <a:off x="2776680" y="4235400"/>
            <a:ext cx="304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6"/>
          <p:cNvSpPr/>
          <p:nvPr/>
        </p:nvSpPr>
        <p:spPr>
          <a:xfrm>
            <a:off x="2776680" y="4284720"/>
            <a:ext cx="304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301572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19600" y="40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9"/>
          <p:cNvSpPr/>
          <p:nvPr/>
        </p:nvSpPr>
        <p:spPr>
          <a:xfrm>
            <a:off x="563400" y="4254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1"/>
          <p:cNvSpPr/>
          <p:nvPr/>
        </p:nvSpPr>
        <p:spPr>
          <a:xfrm>
            <a:off x="803160" y="402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4"/>
          <p:cNvSpPr/>
          <p:nvPr/>
        </p:nvSpPr>
        <p:spPr>
          <a:xfrm>
            <a:off x="825012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35"/>
          <p:cNvSpPr/>
          <p:nvPr/>
        </p:nvSpPr>
        <p:spPr>
          <a:xfrm>
            <a:off x="825012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40B-37EA-49AC-B953-8965AE42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23924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a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2209680"/>
            <a:ext cx="847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lecule with a slightly negative end and a slightly positive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 when electrons are not shared equally in covalent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ter is an important polar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hi25707_0208a"/>
          <p:cNvPicPr/>
          <p:nvPr/>
        </p:nvPicPr>
        <p:blipFill>
          <a:blip r:embed="rId1"/>
          <a:stretch/>
        </p:blipFill>
        <p:spPr>
          <a:xfrm>
            <a:off x="1638360" y="4429080"/>
            <a:ext cx="2076480" cy="1844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1"/>
          <p:cNvSpPr/>
          <p:nvPr/>
        </p:nvSpPr>
        <p:spPr>
          <a:xfrm>
            <a:off x="3526560" y="393048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nega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641400" y="6566040"/>
            <a:ext cx="183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posi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93760" y="6267600"/>
            <a:ext cx="1073160" cy="4172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676" h="263">
                <a:moveTo>
                  <a:pt x="597" y="3"/>
                </a:moveTo>
                <a:lnTo>
                  <a:pt x="676" y="259"/>
                </a:lnTo>
                <a:lnTo>
                  <a:pt x="676" y="263"/>
                </a:lnTo>
                <a:lnTo>
                  <a:pt x="672" y="263"/>
                </a:lnTo>
                <a:lnTo>
                  <a:pt x="0" y="7"/>
                </a:lnTo>
                <a:lnTo>
                  <a:pt x="4" y="0"/>
                </a:lnTo>
                <a:lnTo>
                  <a:pt x="676" y="256"/>
                </a:lnTo>
                <a:lnTo>
                  <a:pt x="668" y="263"/>
                </a:lnTo>
                <a:lnTo>
                  <a:pt x="587" y="7"/>
                </a:lnTo>
                <a:lnTo>
                  <a:pt x="597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59000" y="6672240"/>
            <a:ext cx="322560" cy="17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1902960" y="64753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2057400" y="411480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3200040" y="4114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C92-5257-4D58-95A1-3214E2E0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001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attraction between the positive end of one polar molecule and the negative end of another polar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or protein and nucleic aci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shi25707_0208b"/>
          <p:cNvPicPr/>
          <p:nvPr/>
        </p:nvPicPr>
        <p:blipFill>
          <a:blip r:embed="rId1"/>
          <a:stretch/>
        </p:blipFill>
        <p:spPr>
          <a:xfrm>
            <a:off x="3017880" y="4119480"/>
            <a:ext cx="2744640" cy="2641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4284720" y="5253120"/>
            <a:ext cx="6120" cy="136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4341960" y="5462640"/>
            <a:ext cx="117360" cy="44280"/>
          </a:xfrm>
          <a:custGeom>
            <a:avLst/>
            <a:gdLst>
              <a:gd name="textAreaLeft" fmla="*/ 0 w 117360"/>
              <a:gd name="textAreaRight" fmla="*/ 117720 w 117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4" h="28">
                <a:moveTo>
                  <a:pt x="0" y="0"/>
                </a:moveTo>
                <a:lnTo>
                  <a:pt x="74" y="25"/>
                </a:lnTo>
                <a:lnTo>
                  <a:pt x="74" y="28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75560" y="4168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277160" y="51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94520" y="55166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5625000" y="5761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505760" y="5454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18480" y="58896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443920" y="6138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3940560" y="6130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155120" y="6504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4491360" y="42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295520" y="43830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273200" y="538956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3219120" y="559584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3881160" y="64422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5362200" y="585792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5218920" y="519732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4316400" y="4937040"/>
            <a:ext cx="738360" cy="757440"/>
          </a:xfrm>
          <a:custGeom>
            <a:avLst/>
            <a:gdLst>
              <a:gd name="textAreaLeft" fmla="*/ 0 w 738360"/>
              <a:gd name="textAreaRight" fmla="*/ 738720 w 738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65" h="477">
                <a:moveTo>
                  <a:pt x="0" y="0"/>
                </a:moveTo>
                <a:lnTo>
                  <a:pt x="462" y="206"/>
                </a:lnTo>
                <a:lnTo>
                  <a:pt x="465" y="206"/>
                </a:lnTo>
                <a:lnTo>
                  <a:pt x="362" y="477"/>
                </a:lnTo>
                <a:lnTo>
                  <a:pt x="359" y="477"/>
                </a:lnTo>
                <a:lnTo>
                  <a:pt x="462" y="206"/>
                </a:lnTo>
                <a:lnTo>
                  <a:pt x="462" y="21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5049720" y="5264280"/>
            <a:ext cx="13032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096000" y="66070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96E6-F632-44D5-B5E7-4EE1D75E9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09480" y="22860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study chemistry in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tomy and Physiology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198080" y="369900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functions depend on cell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193760" y="423216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functions result from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19320" y="48006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hemistry helps to explain physiologic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36E-5772-4236-829A-A26509CF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2: Structure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9960" y="2098800"/>
            <a:ext cx="786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nything that takes up space and has mass (weight).  It is composed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3200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mposed of chemically identical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– required by the body in larg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 - required by the body in small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 – required by the body in very minut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mallest particle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FF24-CFE3-4497-A9D4-516F7D24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2.1 Some Particl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shi25707_t02_01"/>
          <p:cNvPicPr/>
          <p:nvPr/>
        </p:nvPicPr>
        <p:blipFill>
          <a:blip r:embed="rId1"/>
          <a:stretch/>
        </p:blipFill>
        <p:spPr>
          <a:xfrm>
            <a:off x="139680" y="2448000"/>
            <a:ext cx="886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6E3F-9CC2-4DB2-8805-381EA14BE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14400" y="20574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tter is composed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 the parts of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est parts of atoms ar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4C6-A071-4BB4-9504-73D67432C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2022480"/>
            <a:ext cx="321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osed of      subatomic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posi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no electrical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nega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648320"/>
            <a:ext cx="34448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part of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protons and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s move around th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Y:\scan\Nimas\Backup\Powerpoint-MH_DCM-Text Art Edit\SHIER-Text Edit\Final files\Chapter 02\Jpeg\Text edit Art\shi25707_0201.jpg"/>
          <p:cNvPicPr/>
          <p:nvPr/>
        </p:nvPicPr>
        <p:blipFill>
          <a:blip r:embed="rId1"/>
          <a:stretch/>
        </p:blipFill>
        <p:spPr>
          <a:xfrm>
            <a:off x="3610080" y="2367000"/>
            <a:ext cx="3968640" cy="3881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8"/>
          <p:cNvSpPr/>
          <p:nvPr/>
        </p:nvSpPr>
        <p:spPr>
          <a:xfrm>
            <a:off x="8045640" y="3849840"/>
            <a:ext cx="101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4825800" y="63817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8045280" y="2986200"/>
            <a:ext cx="82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6243480" y="3087720"/>
            <a:ext cx="1735200" cy="8920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1420" h="729">
                <a:moveTo>
                  <a:pt x="0" y="729"/>
                </a:moveTo>
                <a:lnTo>
                  <a:pt x="1197" y="0"/>
                </a:lnTo>
                <a:lnTo>
                  <a:pt x="14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8048520" y="2057400"/>
            <a:ext cx="977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5908680" y="2162160"/>
            <a:ext cx="2073240" cy="152100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w="1696" h="1244">
                <a:moveTo>
                  <a:pt x="0" y="1244"/>
                </a:moveTo>
                <a:lnTo>
                  <a:pt x="1382" y="0"/>
                </a:lnTo>
                <a:lnTo>
                  <a:pt x="16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8040960" y="55119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6378480" y="4863960"/>
            <a:ext cx="1592280" cy="75276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1303" h="615">
                <a:moveTo>
                  <a:pt x="0" y="0"/>
                </a:moveTo>
                <a:lnTo>
                  <a:pt x="992" y="615"/>
                </a:lnTo>
                <a:lnTo>
                  <a:pt x="1303" y="6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7545240" y="3951360"/>
            <a:ext cx="433440" cy="145800"/>
          </a:xfrm>
          <a:custGeom>
            <a:avLst/>
            <a:gdLst>
              <a:gd name="textAreaLeft" fmla="*/ 0 w 433440"/>
              <a:gd name="textAreaRight" fmla="*/ 433800 w 433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355" h="119">
                <a:moveTo>
                  <a:pt x="0" y="119"/>
                </a:moveTo>
                <a:lnTo>
                  <a:pt x="139" y="0"/>
                </a:lnTo>
                <a:lnTo>
                  <a:pt x="3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5703840" y="4184640"/>
            <a:ext cx="806400" cy="971640"/>
          </a:xfrm>
          <a:custGeom>
            <a:avLst/>
            <a:gdLst>
              <a:gd name="textAreaLeft" fmla="*/ 0 w 806400"/>
              <a:gd name="textAreaRight" fmla="*/ 806760 w 8064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660" h="794">
                <a:moveTo>
                  <a:pt x="0" y="756"/>
                </a:moveTo>
                <a:lnTo>
                  <a:pt x="0" y="756"/>
                </a:lnTo>
                <a:lnTo>
                  <a:pt x="21" y="765"/>
                </a:lnTo>
                <a:lnTo>
                  <a:pt x="43" y="772"/>
                </a:lnTo>
                <a:lnTo>
                  <a:pt x="66" y="778"/>
                </a:lnTo>
                <a:lnTo>
                  <a:pt x="88" y="783"/>
                </a:lnTo>
                <a:lnTo>
                  <a:pt x="111" y="789"/>
                </a:lnTo>
                <a:lnTo>
                  <a:pt x="137" y="790"/>
                </a:lnTo>
                <a:lnTo>
                  <a:pt x="160" y="792"/>
                </a:lnTo>
                <a:lnTo>
                  <a:pt x="185" y="794"/>
                </a:lnTo>
                <a:lnTo>
                  <a:pt x="209" y="792"/>
                </a:lnTo>
                <a:lnTo>
                  <a:pt x="234" y="790"/>
                </a:lnTo>
                <a:lnTo>
                  <a:pt x="257" y="789"/>
                </a:lnTo>
                <a:lnTo>
                  <a:pt x="281" y="783"/>
                </a:lnTo>
                <a:lnTo>
                  <a:pt x="304" y="778"/>
                </a:lnTo>
                <a:lnTo>
                  <a:pt x="326" y="772"/>
                </a:lnTo>
                <a:lnTo>
                  <a:pt x="349" y="765"/>
                </a:lnTo>
                <a:lnTo>
                  <a:pt x="371" y="756"/>
                </a:lnTo>
                <a:lnTo>
                  <a:pt x="392" y="747"/>
                </a:lnTo>
                <a:lnTo>
                  <a:pt x="412" y="736"/>
                </a:lnTo>
                <a:lnTo>
                  <a:pt x="432" y="724"/>
                </a:lnTo>
                <a:lnTo>
                  <a:pt x="452" y="711"/>
                </a:lnTo>
                <a:lnTo>
                  <a:pt x="470" y="699"/>
                </a:lnTo>
                <a:lnTo>
                  <a:pt x="488" y="684"/>
                </a:lnTo>
                <a:lnTo>
                  <a:pt x="506" y="670"/>
                </a:lnTo>
                <a:lnTo>
                  <a:pt x="522" y="654"/>
                </a:lnTo>
                <a:lnTo>
                  <a:pt x="538" y="637"/>
                </a:lnTo>
                <a:lnTo>
                  <a:pt x="552" y="619"/>
                </a:lnTo>
                <a:lnTo>
                  <a:pt x="567" y="601"/>
                </a:lnTo>
                <a:lnTo>
                  <a:pt x="579" y="583"/>
                </a:lnTo>
                <a:lnTo>
                  <a:pt x="592" y="564"/>
                </a:lnTo>
                <a:lnTo>
                  <a:pt x="605" y="544"/>
                </a:lnTo>
                <a:lnTo>
                  <a:pt x="614" y="524"/>
                </a:lnTo>
                <a:lnTo>
                  <a:pt x="624" y="502"/>
                </a:lnTo>
                <a:lnTo>
                  <a:pt x="632" y="481"/>
                </a:lnTo>
                <a:lnTo>
                  <a:pt x="641" y="459"/>
                </a:lnTo>
                <a:lnTo>
                  <a:pt x="646" y="436"/>
                </a:lnTo>
                <a:lnTo>
                  <a:pt x="651" y="412"/>
                </a:lnTo>
                <a:lnTo>
                  <a:pt x="655" y="389"/>
                </a:lnTo>
                <a:lnTo>
                  <a:pt x="659" y="366"/>
                </a:lnTo>
                <a:lnTo>
                  <a:pt x="660" y="342"/>
                </a:lnTo>
                <a:lnTo>
                  <a:pt x="660" y="317"/>
                </a:lnTo>
                <a:lnTo>
                  <a:pt x="659" y="272"/>
                </a:lnTo>
                <a:lnTo>
                  <a:pt x="653" y="229"/>
                </a:lnTo>
                <a:lnTo>
                  <a:pt x="642" y="186"/>
                </a:lnTo>
                <a:lnTo>
                  <a:pt x="630" y="144"/>
                </a:lnTo>
                <a:lnTo>
                  <a:pt x="612" y="107"/>
                </a:lnTo>
                <a:lnTo>
                  <a:pt x="592" y="69"/>
                </a:lnTo>
                <a:lnTo>
                  <a:pt x="569" y="33"/>
                </a:lnTo>
                <a:lnTo>
                  <a:pt x="5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472000" y="4184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9"/>
          <p:cNvSpPr/>
          <p:nvPr/>
        </p:nvSpPr>
        <p:spPr>
          <a:xfrm>
            <a:off x="5621400" y="3816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0"/>
          <p:cNvSpPr/>
          <p:nvPr/>
        </p:nvSpPr>
        <p:spPr>
          <a:xfrm>
            <a:off x="5211360" y="38275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5916240" y="40402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2"/>
          <p:cNvSpPr/>
          <p:nvPr/>
        </p:nvSpPr>
        <p:spPr>
          <a:xfrm>
            <a:off x="5811840" y="4416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5424120" y="456084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102280" y="425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5500800" y="25290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7427880" y="41054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7"/>
          <p:cNvSpPr/>
          <p:nvPr/>
        </p:nvSpPr>
        <p:spPr>
          <a:xfrm>
            <a:off x="5500800" y="573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2660760" y="18572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4D5-5A5A-42FD-8B20-2CD3F278C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62120" y="152280"/>
            <a:ext cx="7772400" cy="13716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Numb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Number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0880" y="1981080"/>
            <a:ext cx="822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rotons in the nucleus of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lement has a unique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the number of electrons 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3352680"/>
            <a:ext cx="769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protons plus the number of neutrons in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do not contribute to the weight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648320"/>
            <a:ext cx="76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f mass number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F71A-E431-43C6-9B07-BB94D102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2240" y="2022480"/>
            <a:ext cx="7483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with the same atomic numbers but with different mass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number of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often forms isotopes (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07EA-9E85-45AB-A903-E0A7D226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es an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69960" y="2174760"/>
            <a:ext cx="763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3352680"/>
            <a:ext cx="740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of different element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46280" y="4765680"/>
            <a:ext cx="725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ar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pict the elements present and the number of each atom present in the molec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pjc</cp:lastModifiedBy>
  <dcterms:modified xsi:type="dcterms:W3CDTF">2012-08-24T19:50:21Z</dcterms:modified>
  <cp:revision>125</cp:revision>
  <dc:subject>Chapter 2</dc:subject>
  <dc:title>PowerPoint to accompany  Hole’s Human Anatomy and Physiology 12e  Authors here</dc:title>
</cp:coreProperties>
</file>