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C4FA-25FC-4BDB-AC4F-DDE3EE47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IGURE 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8DC-1AED-4BE0-840B-B5BB5665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ED9-F5DE-4265-9196-0E9E190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479-C1FF-4066-AB83-7045E62F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005-ED8A-4138-8FE1-9F47D8B7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234-B1B1-4A80-A5B3-D59A23EB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8ED-348A-4F38-B172-FBC9E37F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7A0-94F6-4C72-8DD9-F43F7D20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346-23DD-48C7-9C51-25468E6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F2F-4CFC-4B34-975C-2F8F6A8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9AD-3CF9-45A0-A796-0EE9A39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410-B9C8-4E27-AE6D-B42CD40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C59-2939-4E12-AA90-BD4B279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C08-5C53-43A6-8F4B-03E8675AE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C3B3-E307-4B69-89DE-B093CC2B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oduction to Human Anatomy &amp;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DA1F-6DAD-4C4E-8D59-56D9DF5EA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hi25707_0118_01"/>
          <p:cNvPicPr/>
          <p:nvPr/>
        </p:nvPicPr>
        <p:blipFill>
          <a:blip r:embed="rId1"/>
          <a:stretch/>
        </p:blipFill>
        <p:spPr>
          <a:xfrm>
            <a:off x="2862360" y="2089080"/>
            <a:ext cx="3470040" cy="4540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931480" y="6629400"/>
            <a:ext cx="155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61280" y="6629400"/>
            <a:ext cx="170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A43A-AF82-416A-8B0B-350C2F2A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.1 Clinical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24382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ltrasound (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gnetic Resonance Imaging (M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FF5-FC01-44FE-9DCB-C87B0B93A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4: Characteristics of Life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08640" y="2108160"/>
            <a:ext cx="53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hange in position; mo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0800" y="2717640"/>
            <a:ext cx="50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onsiven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reaction to a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3276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w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increase in body size; no change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91440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ing oxygen; removing carbon dioxide; releasing energy from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144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duction of new organisms and new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F4E6-3201-410F-A819-24F34D057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racteristics of Life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819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ssage of substances through membranes and into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120" y="3886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vement of substances in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2120" y="4572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imi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anging of absorbed substances into chemically differ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380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moval of wastes produced by metabol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reakdown of food substances into simpler 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893-9058-425D-A46A-948DDD138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5: Maintenance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69960" y="202248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depends on five (5) environmental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484B-9BF8-4157-9CC1-97E17D0AE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9960" y="2022480"/>
            <a:ext cx="7788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st abundant substance i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metabol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transport of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es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46280" y="438480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ides necessary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E66D-F48F-41B8-B31A-3087EEB3B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19810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xygen 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ne-fifth of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d to release energy from nutr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338760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m of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ly controls rate of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4911840"/>
            <a:ext cx="778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pplication of force o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tmospheric pressure – important for brea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ydrostatic pressure – keeps blood f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9253-CC03-4E49-B9A9-9A5F6337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si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t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stabl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80880" y="243828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meostatic Control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nitors aspects of the internal environment and corrects as needed. Variations are within limits. There are three (3)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p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vides information about the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rol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ells what a particular value should be (called the set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f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elicits responses that change conditions in th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shi25707_0106_01"/>
          <p:cNvPicPr/>
          <p:nvPr/>
        </p:nvPicPr>
        <p:blipFill>
          <a:blip r:embed="rId1"/>
          <a:stretch/>
        </p:blipFill>
        <p:spPr>
          <a:xfrm>
            <a:off x="276120" y="2198520"/>
            <a:ext cx="8428320" cy="3938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11480" y="5191200"/>
            <a:ext cx="2013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occu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in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nvironme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430960" y="6064200"/>
            <a:ext cx="281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rrected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11120" y="3695760"/>
            <a:ext cx="130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011640" y="3727440"/>
            <a:ext cx="252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muscles or gland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982960" y="2355840"/>
            <a:ext cx="182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set poin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789280" y="3387600"/>
            <a:ext cx="271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mpar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the set poi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1301760" y="19447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0CEB-93A7-4277-92D3-470244D47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5C5-4BEF-4F6A-83DF-747881B63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04920" y="85680"/>
            <a:ext cx="8534160" cy="7621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shi25707_0108"/>
          <p:cNvPicPr/>
          <p:nvPr/>
        </p:nvPicPr>
        <p:blipFill>
          <a:blip r:embed="rId1"/>
          <a:stretch/>
        </p:blipFill>
        <p:spPr>
          <a:xfrm>
            <a:off x="3243240" y="1077840"/>
            <a:ext cx="2612880" cy="56642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317040" y="196704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808800" y="331956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hig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3827520" y="4165560"/>
            <a:ext cx="27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3738600" y="36370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ormal bod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37°C (98.6°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878640" y="127476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3878640" y="582768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4897800" y="6219720"/>
            <a:ext cx="79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inues to drop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 sign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s to contr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voluntaril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3276360" y="2743200"/>
            <a:ext cx="7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ses above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4537440" y="19731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 vesse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late 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cre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4484160" y="27255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lost 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roundings,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6"/>
          <p:cNvSpPr/>
          <p:nvPr/>
        </p:nvSpPr>
        <p:spPr>
          <a:xfrm>
            <a:off x="3317040" y="50673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4520160" y="5060880"/>
            <a:ext cx="64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ssels constri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main inactiv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3273480" y="449280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below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0"/>
          <p:cNvSpPr/>
          <p:nvPr/>
        </p:nvSpPr>
        <p:spPr>
          <a:xfrm>
            <a:off x="5278320" y="506088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4485600" y="4492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conserved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 rise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501920" y="858960"/>
            <a:ext cx="6178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4AA-E904-49E1-BA88-A413B5F28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14400" y="228600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and observations that have led to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bout structure and function of the human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D22-FDA2-46D1-B019-EFC359CCC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5800" y="236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two (2)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ED6D-7B20-4DD7-8E22-DD5257C75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84"/>
          <p:cNvSpPr/>
          <p:nvPr/>
        </p:nvSpPr>
        <p:spPr>
          <a:xfrm>
            <a:off x="304920" y="18288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ga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sudden, severe change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s the se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 opposite of bodily disruption to occur, i.e. the ‘negativ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feedback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ody temperature, blood pressure &amp; glucose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85"/>
          <p:cNvSpPr/>
          <p:nvPr/>
        </p:nvSpPr>
        <p:spPr>
          <a:xfrm>
            <a:off x="228600" y="45720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A4B7-0752-42CD-88ED-9103BE6C6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1"/>
          <p:cNvSpPr/>
          <p:nvPr/>
        </p:nvSpPr>
        <p:spPr>
          <a:xfrm>
            <a:off x="533520" y="1447920"/>
            <a:ext cx="8076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si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(accelerates) the actions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require continuous adju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lood clotting and child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619-BBD6-41B3-AD13-C477F6D1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6: Organiza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Human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shi25707_0109"/>
          <p:cNvPicPr/>
          <p:nvPr/>
        </p:nvPicPr>
        <p:blipFill>
          <a:blip r:embed="rId1"/>
          <a:stretch/>
        </p:blipFill>
        <p:spPr>
          <a:xfrm>
            <a:off x="1600200" y="2590920"/>
            <a:ext cx="1231920" cy="3889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453960" y="4114800"/>
            <a:ext cx="111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295280" y="510552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457200" y="44956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672200" y="586728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3022560" y="288288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3044520" y="3352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542960" y="4575240"/>
            <a:ext cx="505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1600200" y="4191120"/>
            <a:ext cx="47952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4"/>
          <p:cNvSpPr/>
          <p:nvPr/>
        </p:nvSpPr>
        <p:spPr>
          <a:xfrm>
            <a:off x="2311560" y="2930400"/>
            <a:ext cx="687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5"/>
          <p:cNvSpPr/>
          <p:nvPr/>
        </p:nvSpPr>
        <p:spPr>
          <a:xfrm>
            <a:off x="2274840" y="3441600"/>
            <a:ext cx="7192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406440" y="6308640"/>
            <a:ext cx="12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shi25707_0109"/>
          <p:cNvPicPr/>
          <p:nvPr/>
        </p:nvPicPr>
        <p:blipFill>
          <a:blip r:embed="rId2"/>
          <a:stretch/>
        </p:blipFill>
        <p:spPr>
          <a:xfrm>
            <a:off x="5181480" y="2565360"/>
            <a:ext cx="2033640" cy="3835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971440" y="5181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opelv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89640" y="489096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02960" y="559116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67080" y="380988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ght pl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314480" y="3908520"/>
            <a:ext cx="93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292160" y="4111560"/>
            <a:ext cx="130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pleur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416480" y="4267080"/>
            <a:ext cx="78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ar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293600" y="457524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7291080" y="3541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291440" y="279072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27560" y="403848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231080" y="5908680"/>
            <a:ext cx="19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486400" y="5029200"/>
            <a:ext cx="7761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105520" y="3962520"/>
            <a:ext cx="701640" cy="11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5562720" y="5715000"/>
            <a:ext cx="6793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 flipH="1">
            <a:off x="6413040" y="3962520"/>
            <a:ext cx="833400" cy="61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 flipH="1">
            <a:off x="6251040" y="35956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 flipH="1">
            <a:off x="6251040" y="28432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553080" y="4114800"/>
            <a:ext cx="663840" cy="42840"/>
          </a:xfrm>
          <a:custGeom>
            <a:avLst/>
            <a:gdLst>
              <a:gd name="textAreaLeft" fmla="*/ 0 w 663840"/>
              <a:gd name="textAreaRight" fmla="*/ 664200 w 663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8" h="27">
                <a:moveTo>
                  <a:pt x="418" y="27"/>
                </a:moveTo>
                <a:lnTo>
                  <a:pt x="110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6477120" y="4621320"/>
            <a:ext cx="7714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5105520" y="4266720"/>
            <a:ext cx="990360" cy="22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4449600" y="4941720"/>
            <a:ext cx="78120" cy="696960"/>
          </a:xfrm>
          <a:custGeom>
            <a:avLst/>
            <a:gdLst>
              <a:gd name="textAreaLeft" fmla="*/ 0 w 78120"/>
              <a:gd name="textAreaRight" fmla="*/ 78480 w 781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37" h="338">
                <a:moveTo>
                  <a:pt x="37" y="338"/>
                </a:moveTo>
                <a:lnTo>
                  <a:pt x="0" y="338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4387680" y="5307120"/>
            <a:ext cx="59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4191120" y="3886200"/>
            <a:ext cx="75960" cy="609480"/>
          </a:xfrm>
          <a:custGeom>
            <a:avLst/>
            <a:gdLst>
              <a:gd name="textAreaLeft" fmla="*/ 0 w 75960"/>
              <a:gd name="textAreaRight" fmla="*/ 76320 w 75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" h="252">
                <a:moveTo>
                  <a:pt x="37" y="252"/>
                </a:moveTo>
                <a:lnTo>
                  <a:pt x="0" y="252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4114440" y="4191120"/>
            <a:ext cx="58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1"/>
          <p:cNvSpPr/>
          <p:nvPr/>
        </p:nvSpPr>
        <p:spPr>
          <a:xfrm>
            <a:off x="6248520" y="3733920"/>
            <a:ext cx="171360" cy="838080"/>
          </a:xfrm>
          <a:custGeom>
            <a:avLst/>
            <a:gdLst>
              <a:gd name="textAreaLeft" fmla="*/ 0 w 171360"/>
              <a:gd name="textAreaRight" fmla="*/ 171720 w 171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80" h="391">
                <a:moveTo>
                  <a:pt x="0" y="0"/>
                </a:moveTo>
                <a:lnTo>
                  <a:pt x="80" y="0"/>
                </a:lnTo>
                <a:lnTo>
                  <a:pt x="80" y="391"/>
                </a:lnTo>
                <a:lnTo>
                  <a:pt x="43" y="39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2F80-BC66-4B42-BC85-8448851EC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racic &amp; Abdomina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3276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rac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45280" y="2133720"/>
            <a:ext cx="55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scer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vers an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iet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ines a cavity or bod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419720" y="32767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dominopelv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CE42-7861-4AE4-8AC2-56476E0A0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shi25707_0111_01"/>
          <p:cNvPicPr/>
          <p:nvPr/>
        </p:nvPicPr>
        <p:blipFill>
          <a:blip r:embed="rId1"/>
          <a:stretch/>
        </p:blipFill>
        <p:spPr>
          <a:xfrm>
            <a:off x="4876920" y="2819520"/>
            <a:ext cx="3686040" cy="2606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4"/>
          <p:cNvSpPr/>
          <p:nvPr/>
        </p:nvSpPr>
        <p:spPr>
          <a:xfrm>
            <a:off x="1670040" y="17971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shi25707_0112_01"/>
          <p:cNvPicPr/>
          <p:nvPr/>
        </p:nvPicPr>
        <p:blipFill>
          <a:blip r:embed="rId2"/>
          <a:stretch/>
        </p:blipFill>
        <p:spPr>
          <a:xfrm>
            <a:off x="533520" y="2666880"/>
            <a:ext cx="42670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92E-E596-4800-BF6D-9CF68059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7: Lifespan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85800" y="2514600"/>
            <a:ext cx="784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ging occurs from the microscopic level to the whole-bod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you think of some examp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74674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5C71-80DB-4B8A-AE13-8BCD830E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8: Anatomica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69960" y="2098800"/>
            <a:ext cx="451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ical 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nding erect, facing forward, upper limbs at the sides, palms facing forward and thumb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shi25707_0113_01"/>
          <p:cNvPicPr/>
          <p:nvPr/>
        </p:nvPicPr>
        <p:blipFill>
          <a:blip r:embed="rId1"/>
          <a:stretch/>
        </p:blipFill>
        <p:spPr>
          <a:xfrm>
            <a:off x="5835600" y="2116080"/>
            <a:ext cx="2325600" cy="42991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863680" y="6461280"/>
            <a:ext cx="16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4572000" y="1969920"/>
            <a:ext cx="438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0EA4-81FB-434B-8DC7-FC4A827B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tomical Terminology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entation and Directional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" y="22860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rms of Relative Position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natomical posi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or versus Inferior (Cranial vs. Caud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versus Posterior (Ventral vs. Do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versus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si-lateral versus Contra-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mal versus 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icial versus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ersus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18EA-696B-4D2E-8034-556CC9924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 or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2057400"/>
            <a:ext cx="807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gittal or Me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sagittal – divides body into equal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verse or Horiz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superior and inf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onal or Fr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anterior and post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A185-4D85-4497-99D5-2353198D8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2: Anatomy &amp; Physi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21337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structure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function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920" y="4876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omplementarity of structure and func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C3F-FBD2-4225-B401-623F6149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shi25707_0121_01"/>
          <p:cNvPicPr/>
          <p:nvPr/>
        </p:nvPicPr>
        <p:blipFill>
          <a:blip r:embed="rId1"/>
          <a:stretch/>
        </p:blipFill>
        <p:spPr>
          <a:xfrm>
            <a:off x="1287360" y="2038320"/>
            <a:ext cx="6458040" cy="4237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314360" y="5952960"/>
            <a:ext cx="134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fron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73000" y="4842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transve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314720" y="349236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n 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455800" y="3368520"/>
            <a:ext cx="55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ransve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horizon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894760" y="5789520"/>
            <a:ext cx="43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cor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5456880" y="2757600"/>
            <a:ext cx="5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rasagit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2791440" y="2722680"/>
            <a:ext cx="60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midsagit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5594400" y="3760920"/>
            <a:ext cx="1440" cy="26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309840" y="5853240"/>
            <a:ext cx="163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9"/>
          <p:cNvSpPr/>
          <p:nvPr/>
        </p:nvSpPr>
        <p:spPr>
          <a:xfrm>
            <a:off x="3056040" y="2597040"/>
            <a:ext cx="331560" cy="130320"/>
          </a:xfrm>
          <a:custGeom>
            <a:avLst/>
            <a:gdLst>
              <a:gd name="textAreaLeft" fmla="*/ 0 w 331560"/>
              <a:gd name="textAreaRight" fmla="*/ 331920 w 331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82" h="118">
                <a:moveTo>
                  <a:pt x="0" y="118"/>
                </a:moveTo>
                <a:lnTo>
                  <a:pt x="0" y="0"/>
                </a:lnTo>
                <a:lnTo>
                  <a:pt x="28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5421240" y="2597040"/>
            <a:ext cx="308160" cy="141480"/>
          </a:xfrm>
          <a:custGeom>
            <a:avLst/>
            <a:gdLst>
              <a:gd name="textAreaLeft" fmla="*/ 0 w 308160"/>
              <a:gd name="textAreaRight" fmla="*/ 308520 w 308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1" h="129">
                <a:moveTo>
                  <a:pt x="261" y="129"/>
                </a:moveTo>
                <a:lnTo>
                  <a:pt x="26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0AB-8950-45D9-AE32-B3E35745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shi25707_0122_01"/>
          <p:cNvPicPr/>
          <p:nvPr/>
        </p:nvPicPr>
        <p:blipFill>
          <a:blip r:embed="rId1"/>
          <a:stretch/>
        </p:blipFill>
        <p:spPr>
          <a:xfrm>
            <a:off x="228600" y="1522440"/>
            <a:ext cx="8686800" cy="4533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"/>
          <p:cNvSpPr/>
          <p:nvPr/>
        </p:nvSpPr>
        <p:spPr>
          <a:xfrm>
            <a:off x="28980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187080" y="6119640"/>
            <a:ext cx="18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616212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24A0-2070-4ABC-ADB0-37475BF8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1" descr="Y:\Scan\Graphics-Department Server\Job Folder\Powerpoint-Work\Powerpoint-MH_DCM-Text Art Edit\SHIER-Text Edit\Final files\OLD\CH01\old\TextEdit Art - Jpegs\shi25707_01_23.jpg"/>
          <p:cNvPicPr/>
          <p:nvPr/>
        </p:nvPicPr>
        <p:blipFill>
          <a:blip r:embed="rId1"/>
          <a:stretch/>
        </p:blipFill>
        <p:spPr>
          <a:xfrm>
            <a:off x="1444680" y="2049480"/>
            <a:ext cx="6254640" cy="44672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5037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643200" y="653112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58201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716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 rot="19919400">
            <a:off x="33526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liqu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 rot="16200000">
            <a:off x="4114080" y="4268160"/>
            <a:ext cx="4878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itudinal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B0AD-C914-4D8A-9DD8-19F4BC7F1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ominal Sub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shi25707_0124a"/>
          <p:cNvPicPr/>
          <p:nvPr/>
        </p:nvPicPr>
        <p:blipFill>
          <a:blip r:embed="rId1"/>
          <a:stretch/>
        </p:blipFill>
        <p:spPr>
          <a:xfrm>
            <a:off x="228600" y="1828800"/>
            <a:ext cx="423396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30168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98928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6524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1825920" y="3048120"/>
            <a:ext cx="86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i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190224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1825920" y="4876920"/>
            <a:ext cx="102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296856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297036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297036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" descr="shi25707_0124b"/>
          <p:cNvPicPr/>
          <p:nvPr/>
        </p:nvPicPr>
        <p:blipFill>
          <a:blip r:embed="rId2"/>
          <a:stretch/>
        </p:blipFill>
        <p:spPr>
          <a:xfrm>
            <a:off x="4648320" y="1828800"/>
            <a:ext cx="3975120" cy="41911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5410080" y="320040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705720" y="3200400"/>
            <a:ext cx="1295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5410080" y="426708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705720" y="4267080"/>
            <a:ext cx="1085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67C6-E9B0-4A00-8BEA-88DE1E2C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shi25707_0125_01"/>
          <p:cNvPicPr/>
          <p:nvPr/>
        </p:nvPicPr>
        <p:blipFill>
          <a:blip r:embed="rId1"/>
          <a:stretch/>
        </p:blipFill>
        <p:spPr>
          <a:xfrm>
            <a:off x="2790720" y="1965240"/>
            <a:ext cx="3538800" cy="4581720"/>
          </a:xfrm>
          <a:prstGeom prst="rect">
            <a:avLst/>
          </a:prstGeom>
          <a:ln w="0">
            <a:noFill/>
          </a:ln>
        </p:spPr>
      </p:pic>
      <p:sp>
        <p:nvSpPr>
          <p:cNvPr id="305" name="Line 6"/>
          <p:cNvSpPr/>
          <p:nvPr/>
        </p:nvSpPr>
        <p:spPr>
          <a:xfrm>
            <a:off x="3235320" y="264312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3235320" y="2513160"/>
            <a:ext cx="431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235320" y="2421000"/>
            <a:ext cx="4111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9"/>
          <p:cNvSpPr/>
          <p:nvPr/>
        </p:nvSpPr>
        <p:spPr>
          <a:xfrm>
            <a:off x="3225960" y="2284560"/>
            <a:ext cx="222120" cy="61920"/>
          </a:xfrm>
          <a:custGeom>
            <a:avLst/>
            <a:gdLst>
              <a:gd name="textAreaLeft" fmla="*/ 0 w 222120"/>
              <a:gd name="textAreaRight" fmla="*/ 222480 w 22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6" h="53">
                <a:moveTo>
                  <a:pt x="186" y="53"/>
                </a:moveTo>
                <a:lnTo>
                  <a:pt x="68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2757600" y="2832120"/>
            <a:ext cx="48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 flipH="1">
            <a:off x="2754360" y="3195720"/>
            <a:ext cx="62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754360" y="30639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2757600" y="3357720"/>
            <a:ext cx="423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2754360" y="3624120"/>
            <a:ext cx="3668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2755800" y="3836880"/>
            <a:ext cx="77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2754360" y="4068720"/>
            <a:ext cx="325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7"/>
          <p:cNvSpPr/>
          <p:nvPr/>
        </p:nvSpPr>
        <p:spPr>
          <a:xfrm>
            <a:off x="2751120" y="4240080"/>
            <a:ext cx="273240" cy="68400"/>
          </a:xfrm>
          <a:custGeom>
            <a:avLst/>
            <a:gdLst>
              <a:gd name="textAreaLeft" fmla="*/ 0 w 273240"/>
              <a:gd name="textAreaRight" fmla="*/ 273600 w 2732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8" h="57">
                <a:moveTo>
                  <a:pt x="228" y="0"/>
                </a:moveTo>
                <a:lnTo>
                  <a:pt x="53" y="57"/>
                </a:lnTo>
                <a:lnTo>
                  <a:pt x="0" y="5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2754360" y="4438800"/>
            <a:ext cx="250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9"/>
          <p:cNvSpPr/>
          <p:nvPr/>
        </p:nvSpPr>
        <p:spPr>
          <a:xfrm>
            <a:off x="2755800" y="4664160"/>
            <a:ext cx="20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0"/>
          <p:cNvSpPr/>
          <p:nvPr/>
        </p:nvSpPr>
        <p:spPr>
          <a:xfrm>
            <a:off x="3114720" y="4417920"/>
            <a:ext cx="522360" cy="623880"/>
          </a:xfrm>
          <a:custGeom>
            <a:avLst/>
            <a:gdLst>
              <a:gd name="textAreaLeft" fmla="*/ 0 w 522360"/>
              <a:gd name="textAreaRight" fmla="*/ 522720 w 522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6" h="525">
                <a:moveTo>
                  <a:pt x="436" y="0"/>
                </a:moveTo>
                <a:lnTo>
                  <a:pt x="60" y="525"/>
                </a:lnTo>
                <a:lnTo>
                  <a:pt x="0" y="52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3930480" y="5826240"/>
            <a:ext cx="397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3119400" y="5273640"/>
            <a:ext cx="372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3112920" y="6210360"/>
            <a:ext cx="416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3714840" y="2073240"/>
            <a:ext cx="3873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5"/>
          <p:cNvSpPr/>
          <p:nvPr/>
        </p:nvSpPr>
        <p:spPr>
          <a:xfrm>
            <a:off x="3657600" y="2203560"/>
            <a:ext cx="447840" cy="48960"/>
          </a:xfrm>
          <a:custGeom>
            <a:avLst/>
            <a:gdLst>
              <a:gd name="textAreaLeft" fmla="*/ 0 w 447840"/>
              <a:gd name="textAreaRight" fmla="*/ 448200 w 447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74" h="42">
                <a:moveTo>
                  <a:pt x="374" y="0"/>
                </a:moveTo>
                <a:lnTo>
                  <a:pt x="42" y="0"/>
                </a:lnTo>
                <a:lnTo>
                  <a:pt x="0" y="4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6"/>
          <p:cNvSpPr/>
          <p:nvPr/>
        </p:nvSpPr>
        <p:spPr>
          <a:xfrm>
            <a:off x="3657600" y="2203560"/>
            <a:ext cx="444600" cy="47520"/>
          </a:xfrm>
          <a:custGeom>
            <a:avLst/>
            <a:gdLst>
              <a:gd name="textAreaLeft" fmla="*/ 0 w 444600"/>
              <a:gd name="textAreaRight" fmla="*/ 444960 w 444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2" h="40">
                <a:moveTo>
                  <a:pt x="372" y="0"/>
                </a:moveTo>
                <a:lnTo>
                  <a:pt x="41" y="0"/>
                </a:lnTo>
                <a:lnTo>
                  <a:pt x="0" y="4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3733920" y="2340000"/>
            <a:ext cx="368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3781440" y="2468520"/>
            <a:ext cx="320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3666960" y="2595600"/>
            <a:ext cx="435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30"/>
          <p:cNvSpPr/>
          <p:nvPr/>
        </p:nvSpPr>
        <p:spPr>
          <a:xfrm>
            <a:off x="3666960" y="2779560"/>
            <a:ext cx="598680" cy="109800"/>
          </a:xfrm>
          <a:custGeom>
            <a:avLst/>
            <a:gdLst>
              <a:gd name="textAreaLeft" fmla="*/ 0 w 598680"/>
              <a:gd name="textAreaRight" fmla="*/ 599040 w 5986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01" h="92">
                <a:moveTo>
                  <a:pt x="0" y="92"/>
                </a:moveTo>
                <a:lnTo>
                  <a:pt x="429" y="0"/>
                </a:lnTo>
                <a:lnTo>
                  <a:pt x="501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1"/>
          <p:cNvSpPr/>
          <p:nvPr/>
        </p:nvSpPr>
        <p:spPr>
          <a:xfrm flipH="1">
            <a:off x="3890520" y="2936880"/>
            <a:ext cx="381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2"/>
          <p:cNvSpPr/>
          <p:nvPr/>
        </p:nvSpPr>
        <p:spPr>
          <a:xfrm flipH="1">
            <a:off x="4032360" y="4159080"/>
            <a:ext cx="395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33"/>
          <p:cNvSpPr/>
          <p:nvPr/>
        </p:nvSpPr>
        <p:spPr>
          <a:xfrm>
            <a:off x="3827520" y="3808440"/>
            <a:ext cx="598320" cy="331920"/>
          </a:xfrm>
          <a:custGeom>
            <a:avLst/>
            <a:gdLst>
              <a:gd name="textAreaLeft" fmla="*/ 0 w 598320"/>
              <a:gd name="textAreaRight" fmla="*/ 598680 w 598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500" h="279">
                <a:moveTo>
                  <a:pt x="0" y="279"/>
                </a:moveTo>
                <a:lnTo>
                  <a:pt x="416" y="0"/>
                </a:lnTo>
                <a:lnTo>
                  <a:pt x="5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34"/>
          <p:cNvSpPr/>
          <p:nvPr/>
        </p:nvSpPr>
        <p:spPr>
          <a:xfrm>
            <a:off x="3666960" y="3560760"/>
            <a:ext cx="684360" cy="249120"/>
          </a:xfrm>
          <a:custGeom>
            <a:avLst/>
            <a:gdLst>
              <a:gd name="textAreaLeft" fmla="*/ 0 w 684360"/>
              <a:gd name="textAreaRight" fmla="*/ 684720 w 684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573" h="210">
                <a:moveTo>
                  <a:pt x="0" y="210"/>
                </a:moveTo>
                <a:lnTo>
                  <a:pt x="503" y="0"/>
                </a:lnTo>
                <a:lnTo>
                  <a:pt x="57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5"/>
          <p:cNvSpPr/>
          <p:nvPr/>
        </p:nvSpPr>
        <p:spPr>
          <a:xfrm flipH="1">
            <a:off x="3877920" y="6288120"/>
            <a:ext cx="407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6"/>
          <p:cNvSpPr/>
          <p:nvPr/>
        </p:nvSpPr>
        <p:spPr>
          <a:xfrm>
            <a:off x="5415120" y="2411280"/>
            <a:ext cx="83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7"/>
          <p:cNvSpPr/>
          <p:nvPr/>
        </p:nvSpPr>
        <p:spPr>
          <a:xfrm>
            <a:off x="5918040" y="2867040"/>
            <a:ext cx="3333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5438880" y="3076560"/>
            <a:ext cx="811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9"/>
          <p:cNvSpPr/>
          <p:nvPr/>
        </p:nvSpPr>
        <p:spPr>
          <a:xfrm>
            <a:off x="5946840" y="3298680"/>
            <a:ext cx="31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0"/>
          <p:cNvSpPr/>
          <p:nvPr/>
        </p:nvSpPr>
        <p:spPr>
          <a:xfrm>
            <a:off x="5700600" y="3490920"/>
            <a:ext cx="557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5961240" y="3641760"/>
            <a:ext cx="296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2"/>
          <p:cNvSpPr/>
          <p:nvPr/>
        </p:nvSpPr>
        <p:spPr>
          <a:xfrm>
            <a:off x="5611680" y="3780000"/>
            <a:ext cx="646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3"/>
          <p:cNvSpPr/>
          <p:nvPr/>
        </p:nvSpPr>
        <p:spPr>
          <a:xfrm>
            <a:off x="5457960" y="4059360"/>
            <a:ext cx="799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44"/>
          <p:cNvSpPr/>
          <p:nvPr/>
        </p:nvSpPr>
        <p:spPr>
          <a:xfrm>
            <a:off x="5689440" y="4178160"/>
            <a:ext cx="56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5"/>
          <p:cNvSpPr/>
          <p:nvPr/>
        </p:nvSpPr>
        <p:spPr>
          <a:xfrm>
            <a:off x="5472000" y="4357800"/>
            <a:ext cx="88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6"/>
          <p:cNvSpPr/>
          <p:nvPr/>
        </p:nvSpPr>
        <p:spPr>
          <a:xfrm flipH="1">
            <a:off x="5635800" y="4975200"/>
            <a:ext cx="488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7"/>
          <p:cNvSpPr/>
          <p:nvPr/>
        </p:nvSpPr>
        <p:spPr>
          <a:xfrm flipH="1">
            <a:off x="5592600" y="5241960"/>
            <a:ext cx="532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 flipH="1">
            <a:off x="4749480" y="54975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9"/>
          <p:cNvSpPr/>
          <p:nvPr/>
        </p:nvSpPr>
        <p:spPr>
          <a:xfrm flipH="1">
            <a:off x="5621400" y="64342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0"/>
          <p:cNvSpPr/>
          <p:nvPr/>
        </p:nvSpPr>
        <p:spPr>
          <a:xfrm>
            <a:off x="2862720" y="2228760"/>
            <a:ext cx="33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tic (ea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1"/>
          <p:cNvSpPr/>
          <p:nvPr/>
        </p:nvSpPr>
        <p:spPr>
          <a:xfrm>
            <a:off x="2647080" y="2581200"/>
            <a:ext cx="54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rvical (ne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2"/>
          <p:cNvSpPr/>
          <p:nvPr/>
        </p:nvSpPr>
        <p:spPr>
          <a:xfrm>
            <a:off x="2052360" y="278460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4"/>
          <p:cNvSpPr/>
          <p:nvPr/>
        </p:nvSpPr>
        <p:spPr>
          <a:xfrm>
            <a:off x="2054880" y="313848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mmary (brea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5"/>
          <p:cNvSpPr/>
          <p:nvPr/>
        </p:nvSpPr>
        <p:spPr>
          <a:xfrm>
            <a:off x="2420640" y="331488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2161440" y="3581280"/>
            <a:ext cx="561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cub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2255760" y="4021200"/>
            <a:ext cx="465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ore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1"/>
          <p:cNvSpPr/>
          <p:nvPr/>
        </p:nvSpPr>
        <p:spPr>
          <a:xfrm>
            <a:off x="2287080" y="5000760"/>
            <a:ext cx="794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reproductive orga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4111200" y="2028960"/>
            <a:ext cx="57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phalic (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4"/>
          <p:cNvSpPr/>
          <p:nvPr/>
        </p:nvSpPr>
        <p:spPr>
          <a:xfrm>
            <a:off x="4112280" y="2293920"/>
            <a:ext cx="68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bital (eye cavit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"/>
          <p:cNvSpPr/>
          <p:nvPr/>
        </p:nvSpPr>
        <p:spPr>
          <a:xfrm>
            <a:off x="4110840" y="2560680"/>
            <a:ext cx="47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ntal (ch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"/>
          <p:cNvSpPr/>
          <p:nvPr/>
        </p:nvSpPr>
        <p:spPr>
          <a:xfrm>
            <a:off x="4282560" y="2733840"/>
            <a:ext cx="25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er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7"/>
          <p:cNvSpPr/>
          <p:nvPr/>
        </p:nvSpPr>
        <p:spPr>
          <a:xfrm>
            <a:off x="4289040" y="291132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c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he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9"/>
          <p:cNvSpPr/>
          <p:nvPr/>
        </p:nvSpPr>
        <p:spPr>
          <a:xfrm>
            <a:off x="4443120" y="3762360"/>
            <a:ext cx="296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gu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gro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1"/>
          <p:cNvSpPr/>
          <p:nvPr/>
        </p:nvSpPr>
        <p:spPr>
          <a:xfrm>
            <a:off x="4446000" y="4113360"/>
            <a:ext cx="209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x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hi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4366080" y="3514680"/>
            <a:ext cx="340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nave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5"/>
          <p:cNvSpPr/>
          <p:nvPr/>
        </p:nvSpPr>
        <p:spPr>
          <a:xfrm>
            <a:off x="4297320" y="624996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dal (foo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6"/>
          <p:cNvSpPr/>
          <p:nvPr/>
        </p:nvSpPr>
        <p:spPr>
          <a:xfrm>
            <a:off x="6271920" y="237492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ccip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ack of 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8"/>
          <p:cNvSpPr/>
          <p:nvPr/>
        </p:nvSpPr>
        <p:spPr>
          <a:xfrm>
            <a:off x="6268680" y="281772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0"/>
          <p:cNvSpPr/>
          <p:nvPr/>
        </p:nvSpPr>
        <p:spPr>
          <a:xfrm>
            <a:off x="6275520" y="3257640"/>
            <a:ext cx="51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 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1"/>
          <p:cNvSpPr/>
          <p:nvPr/>
        </p:nvSpPr>
        <p:spPr>
          <a:xfrm>
            <a:off x="6274440" y="3433680"/>
            <a:ext cx="53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orsum (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2"/>
          <p:cNvSpPr/>
          <p:nvPr/>
        </p:nvSpPr>
        <p:spPr>
          <a:xfrm>
            <a:off x="6270840" y="3611520"/>
            <a:ext cx="55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ubital (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3"/>
          <p:cNvSpPr/>
          <p:nvPr/>
        </p:nvSpPr>
        <p:spPr>
          <a:xfrm>
            <a:off x="6270480" y="4140360"/>
            <a:ext cx="65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luteal (buttock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4"/>
          <p:cNvSpPr/>
          <p:nvPr/>
        </p:nvSpPr>
        <p:spPr>
          <a:xfrm>
            <a:off x="6273720" y="431640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ine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5"/>
          <p:cNvSpPr/>
          <p:nvPr/>
        </p:nvSpPr>
        <p:spPr>
          <a:xfrm>
            <a:off x="6133680" y="4925880"/>
            <a:ext cx="56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emoral (thig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86"/>
          <p:cNvSpPr/>
          <p:nvPr/>
        </p:nvSpPr>
        <p:spPr>
          <a:xfrm>
            <a:off x="6131880" y="5189400"/>
            <a:ext cx="860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opliteal (back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7"/>
          <p:cNvSpPr/>
          <p:nvPr/>
        </p:nvSpPr>
        <p:spPr>
          <a:xfrm>
            <a:off x="6135480" y="638820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lantar (so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88"/>
          <p:cNvSpPr/>
          <p:nvPr/>
        </p:nvSpPr>
        <p:spPr>
          <a:xfrm>
            <a:off x="2067840" y="6473880"/>
            <a:ext cx="9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9"/>
          <p:cNvSpPr/>
          <p:nvPr/>
        </p:nvSpPr>
        <p:spPr>
          <a:xfrm>
            <a:off x="4594320" y="6475320"/>
            <a:ext cx="9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0"/>
          <p:cNvSpPr/>
          <p:nvPr/>
        </p:nvSpPr>
        <p:spPr>
          <a:xfrm>
            <a:off x="2582280" y="5232240"/>
            <a:ext cx="518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tel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2"/>
          <p:cNvSpPr/>
          <p:nvPr/>
        </p:nvSpPr>
        <p:spPr>
          <a:xfrm>
            <a:off x="6271200" y="3025800"/>
            <a:ext cx="569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rteb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pinal colum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5"/>
          <p:cNvSpPr/>
          <p:nvPr/>
        </p:nvSpPr>
        <p:spPr>
          <a:xfrm>
            <a:off x="6273360" y="4006800"/>
            <a:ext cx="79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acral (between hip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96"/>
          <p:cNvSpPr/>
          <p:nvPr/>
        </p:nvSpPr>
        <p:spPr>
          <a:xfrm>
            <a:off x="6274800" y="3727440"/>
            <a:ext cx="448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lower 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98"/>
          <p:cNvSpPr/>
          <p:nvPr/>
        </p:nvSpPr>
        <p:spPr>
          <a:xfrm>
            <a:off x="2320200" y="3790800"/>
            <a:ext cx="397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bdome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00"/>
          <p:cNvSpPr/>
          <p:nvPr/>
        </p:nvSpPr>
        <p:spPr>
          <a:xfrm>
            <a:off x="2227680" y="4262400"/>
            <a:ext cx="48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pal (wri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1"/>
          <p:cNvSpPr/>
          <p:nvPr/>
        </p:nvSpPr>
        <p:spPr>
          <a:xfrm>
            <a:off x="2209680" y="439884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lmar (pal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2"/>
          <p:cNvSpPr/>
          <p:nvPr/>
        </p:nvSpPr>
        <p:spPr>
          <a:xfrm>
            <a:off x="2193480" y="461628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fing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3"/>
          <p:cNvSpPr/>
          <p:nvPr/>
        </p:nvSpPr>
        <p:spPr>
          <a:xfrm>
            <a:off x="2739960" y="235908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asal (nos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4"/>
          <p:cNvSpPr/>
          <p:nvPr/>
        </p:nvSpPr>
        <p:spPr>
          <a:xfrm>
            <a:off x="2734200" y="24703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al (mout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5"/>
          <p:cNvSpPr/>
          <p:nvPr/>
        </p:nvSpPr>
        <p:spPr>
          <a:xfrm>
            <a:off x="4110840" y="215424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ntal (fore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6"/>
          <p:cNvSpPr/>
          <p:nvPr/>
        </p:nvSpPr>
        <p:spPr>
          <a:xfrm>
            <a:off x="4113000" y="2422440"/>
            <a:ext cx="543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ccal (chee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7"/>
          <p:cNvSpPr/>
          <p:nvPr/>
        </p:nvSpPr>
        <p:spPr>
          <a:xfrm>
            <a:off x="2556720" y="616104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8"/>
          <p:cNvSpPr/>
          <p:nvPr/>
        </p:nvSpPr>
        <p:spPr>
          <a:xfrm>
            <a:off x="2599920" y="6161040"/>
            <a:ext cx="47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rsal (inste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09"/>
          <p:cNvSpPr/>
          <p:nvPr/>
        </p:nvSpPr>
        <p:spPr>
          <a:xfrm>
            <a:off x="3121200" y="6408720"/>
            <a:ext cx="298440" cy="58680"/>
          </a:xfrm>
          <a:custGeom>
            <a:avLst/>
            <a:gdLst>
              <a:gd name="textAreaLeft" fmla="*/ 0 w 298440"/>
              <a:gd name="textAreaRight" fmla="*/ 298800 w 29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0" h="50">
                <a:moveTo>
                  <a:pt x="250" y="0"/>
                </a:moveTo>
                <a:lnTo>
                  <a:pt x="206" y="50"/>
                </a:lnTo>
                <a:lnTo>
                  <a:pt x="0" y="5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0"/>
          <p:cNvSpPr/>
          <p:nvPr/>
        </p:nvSpPr>
        <p:spPr>
          <a:xfrm>
            <a:off x="2665440" y="641844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to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11"/>
          <p:cNvSpPr/>
          <p:nvPr/>
        </p:nvSpPr>
        <p:spPr>
          <a:xfrm>
            <a:off x="2131200" y="3011400"/>
            <a:ext cx="58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xillary (armpi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2"/>
          <p:cNvSpPr/>
          <p:nvPr/>
        </p:nvSpPr>
        <p:spPr>
          <a:xfrm>
            <a:off x="4340520" y="5778360"/>
            <a:ext cx="40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rural (le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3"/>
          <p:cNvSpPr/>
          <p:nvPr/>
        </p:nvSpPr>
        <p:spPr>
          <a:xfrm>
            <a:off x="4317840" y="5445000"/>
            <a:ext cx="39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al (cal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4"/>
          <p:cNvSpPr/>
          <p:nvPr/>
        </p:nvSpPr>
        <p:spPr>
          <a:xfrm>
            <a:off x="4778280" y="5826240"/>
            <a:ext cx="505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24"/>
          <p:cNvSpPr/>
          <p:nvPr/>
        </p:nvSpPr>
        <p:spPr>
          <a:xfrm>
            <a:off x="1479600" y="176688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D6D2-09C3-4910-A47F-7BA5876F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3: Levels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68580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atomic Particle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, protons, and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ydrogen atom, lithium ato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685800" y="2514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ater molecule, glucose molecu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685800" y="2971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cro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tein molecule, DNA molecule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685800" y="3429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e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itochondrion, Golgi apparatus, nucleu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1"/>
          <p:cNvSpPr/>
          <p:nvPr/>
        </p:nvSpPr>
        <p:spPr>
          <a:xfrm>
            <a:off x="685800" y="3962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uscle cell, nerve cel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2"/>
          <p:cNvSpPr/>
          <p:nvPr/>
        </p:nvSpPr>
        <p:spPr>
          <a:xfrm>
            <a:off x="68580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ss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epithelia, connective, muscle and n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3"/>
          <p:cNvSpPr/>
          <p:nvPr/>
        </p:nvSpPr>
        <p:spPr>
          <a:xfrm>
            <a:off x="68580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kin, femur, heart, kidney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34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 Sy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keletal system, digestive syste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5"/>
          <p:cNvSpPr/>
          <p:nvPr/>
        </p:nvSpPr>
        <p:spPr>
          <a:xfrm>
            <a:off x="68580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shi25707_0103_01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467720" y="2108160"/>
            <a:ext cx="971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545120" y="277020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708920" y="348948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361600" y="4379760"/>
            <a:ext cx="74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cro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841480" y="489600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3166560" y="548316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3852720" y="566748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3946320" y="46641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4343760" y="34164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6293880" y="495792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1301760" y="182880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650A-D9E9-4D71-A002-0A4ED1BC7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shi25707_0114_01"/>
          <p:cNvPicPr/>
          <p:nvPr/>
        </p:nvPicPr>
        <p:blipFill>
          <a:blip r:embed="rId1"/>
          <a:stretch/>
        </p:blipFill>
        <p:spPr>
          <a:xfrm>
            <a:off x="4419720" y="2057400"/>
            <a:ext cx="3387600" cy="4305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4566960" y="6248520"/>
            <a:ext cx="134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320520" y="6324480"/>
            <a:ext cx="144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shi25707_0113_01"/>
          <p:cNvPicPr/>
          <p:nvPr/>
        </p:nvPicPr>
        <p:blipFill>
          <a:blip r:embed="rId2"/>
          <a:stretch/>
        </p:blipFill>
        <p:spPr>
          <a:xfrm>
            <a:off x="1417680" y="2133720"/>
            <a:ext cx="2243160" cy="4203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365480" y="6248520"/>
            <a:ext cx="19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FF65-9DA2-4673-AC4E-3F6513FD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shi25707_0115"/>
          <p:cNvPicPr/>
          <p:nvPr/>
        </p:nvPicPr>
        <p:blipFill>
          <a:blip r:embed="rId1"/>
          <a:stretch/>
        </p:blipFill>
        <p:spPr>
          <a:xfrm>
            <a:off x="2058840" y="2100240"/>
            <a:ext cx="5042160" cy="4403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306520" y="6408720"/>
            <a:ext cx="127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804200" y="647388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A42-5074-45AE-ABE4-18D422E4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hi25707_0116_01"/>
          <p:cNvPicPr/>
          <p:nvPr/>
        </p:nvPicPr>
        <p:blipFill>
          <a:blip r:embed="rId1"/>
          <a:stretch/>
        </p:blipFill>
        <p:spPr>
          <a:xfrm>
            <a:off x="2835360" y="2057400"/>
            <a:ext cx="3432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813760" y="6400800"/>
            <a:ext cx="167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873320" y="6477120"/>
            <a:ext cx="133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mphat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2388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32B5-9433-4FAD-BA4C-FFE8491E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shi25707_0117_01"/>
          <p:cNvPicPr/>
          <p:nvPr/>
        </p:nvPicPr>
        <p:blipFill>
          <a:blip r:embed="rId1"/>
          <a:stretch/>
        </p:blipFill>
        <p:spPr>
          <a:xfrm>
            <a:off x="2021040" y="2057400"/>
            <a:ext cx="5130720" cy="4492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205360" y="6523200"/>
            <a:ext cx="12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76840" y="652320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782320" y="652320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in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Jason Taylor</cp:lastModifiedBy>
  <dcterms:modified xsi:type="dcterms:W3CDTF">2011-08-17T15:09:43Z</dcterms:modified>
  <cp:revision>98</cp:revision>
  <dc:subject>Chapter 1</dc:subject>
  <dc:title>PowerPoint to accompany  Hole’s Human Anatomy and Physiology 12e  Authors here</dc:title>
</cp:coreProperties>
</file>